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5.png" ContentType="image/png"/>
  <Override PartName="/ppt/media/image20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wmf" ContentType="image/x-wmf"/>
  <Override PartName="/ppt/media/image49.png" ContentType="image/png"/>
  <Override PartName="/ppt/media/image46.png" ContentType="image/png"/>
  <Override PartName="/ppt/media/image45.png" ContentType="image/png"/>
  <Override PartName="/ppt/media/image43.wmf" ContentType="image/x-wmf"/>
  <Override PartName="/ppt/media/image9.png" ContentType="image/png"/>
  <Override PartName="/ppt/media/image40.png" ContentType="image/png"/>
  <Override PartName="/ppt/media/image37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31.png" ContentType="image/png"/>
  <Override PartName="/ppt/media/image68.png" ContentType="image/png"/>
  <Override PartName="/ppt/media/image24.png" ContentType="image/png"/>
  <Override PartName="/ppt/media/image54.png" ContentType="image/png"/>
  <Override PartName="/ppt/media/image14.jpeg" ContentType="image/jpeg"/>
  <Override PartName="/ppt/media/image41.jpeg" ContentType="image/jpeg"/>
  <Override PartName="/ppt/media/image66.png" ContentType="image/png"/>
  <Override PartName="/ppt/media/image18.jpeg" ContentType="image/jpeg"/>
  <Override PartName="/ppt/media/image21.png" ContentType="image/png"/>
  <Override PartName="/ppt/media/image22.png" ContentType="image/png"/>
  <Override PartName="/ppt/media/image74.wmf" ContentType="image/x-wmf"/>
  <Override PartName="/ppt/media/image12.jpeg" ContentType="image/jpeg"/>
  <Override PartName="/ppt/media/image34.png" ContentType="image/png"/>
  <Override PartName="/ppt/media/image17.jpeg" ContentType="image/jpeg"/>
  <Override PartName="/ppt/media/image63.png" ContentType="image/png"/>
  <Override PartName="/ppt/media/image16.jpeg" ContentType="image/jpeg"/>
  <Override PartName="/ppt/media/image73.wmf" ContentType="image/x-wmf"/>
  <Override PartName="/ppt/media/image33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62.png" ContentType="image/png"/>
  <Override PartName="/ppt/media/image72.png" ContentType="image/png"/>
  <Override PartName="/ppt/media/image3.wmf" ContentType="image/x-wmf"/>
  <Override PartName="/ppt/media/image60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7.jpeg" ContentType="image/jpeg"/>
  <Override PartName="/ppt/media/image67.png" ContentType="image/png"/>
  <Override PartName="/ppt/media/image30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15.jpeg" ContentType="image/jpeg"/>
  <Override PartName="/ppt/media/image8.jpeg" ContentType="image/jpeg"/>
  <Override PartName="/ppt/media/image38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59.png" ContentType="image/png"/>
  <Override PartName="/ppt/media/image4.wmf" ContentType="image/x-wmf"/>
  <Override PartName="/ppt/media/image10.png" ContentType="image/png"/>
  <Override PartName="/ppt/media/image47.png" ContentType="image/png"/>
  <Override PartName="/ppt/media/image26.jpeg" ContentType="image/jpeg"/>
  <Override PartName="/ppt/media/image61.png" ContentType="image/png"/>
  <Override PartName="/ppt/media/image5.jpeg" ContentType="image/jpeg"/>
  <Override PartName="/ppt/media/image50.png" ContentType="image/png"/>
  <Override PartName="/ppt/media/image42.jpeg" ContentType="image/jpe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39.png" ContentType="image/png"/>
  <Override PartName="/ppt/media/image35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995B-DB48-4598-A1AD-88B87C62D2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961920" y="685800"/>
            <a:ext cx="49420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002F-2253-4BCD-8099-FF4A7214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90C8-AD2C-442C-BDB3-8161944D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359-77C7-4373-A6F9-A28690CD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2D0-53D2-454D-AFB3-2F4AA2D2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09A8-7865-4F52-AC43-E0B8F966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2C2-EA0A-44DD-88FC-41337996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4C7-9817-4E47-84E8-4F753DCB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93B-E1DF-4A01-87CA-3CF1E664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528-8434-4C79-8E78-A767F53F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57C-B281-426D-9549-BA06D164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566-6304-4F9A-AE88-D215A5A3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F4E-4549-43B0-B353-F64B4868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4CE8-0CFE-4AAA-B350-717D14CC5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49.png"/><Relationship Id="rId3" Type="http://schemas.openxmlformats.org/officeDocument/2006/relationships/image" Target="../media/image53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ent Status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OPERA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00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cc"/>
                </a:solidFill>
                <a:latin typeface="Arial"/>
              </a:rPr>
              <a:t>Kunihiro Morish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cc"/>
                </a:solidFill>
                <a:latin typeface="Arial"/>
              </a:rPr>
              <a:t>morishima@flab.phys.nagoya-u.ac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goya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n behalf of OPERA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1081080" cy="80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46920" y="3573360"/>
            <a:ext cx="61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cillation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ject with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ulsion t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king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parat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25560" y="646128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NN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ign of The OPERA Det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16000" y="1590840"/>
            <a:ext cx="7632720" cy="42861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24000" y="2598840"/>
            <a:ext cx="1680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NGS B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102120"/>
            <a:ext cx="1655640" cy="144360"/>
          </a:xfrm>
          <a:prstGeom prst="line">
            <a:avLst/>
          </a:prstGeom>
          <a:ln w="66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997320" y="2382840"/>
            <a:ext cx="95400" cy="216072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05080" y="3317760"/>
            <a:ext cx="689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227640" y="4619520"/>
            <a:ext cx="811440" cy="78768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60720" y="504684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4686480"/>
            <a:ext cx="3240000" cy="64764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56920" y="49021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763280" y="3678120"/>
            <a:ext cx="1297080" cy="1479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0640" y="5157720"/>
            <a:ext cx="23828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ECC + Target Tra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708000" y="3894120"/>
            <a:ext cx="576360" cy="1695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16640" y="5516640"/>
            <a:ext cx="14868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tro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6706400">
            <a:off x="3332880" y="1465560"/>
            <a:ext cx="468360" cy="1724040"/>
          </a:xfrm>
          <a:custGeom>
            <a:avLst/>
            <a:gdLst>
              <a:gd name="textAreaLeft" fmla="*/ 0 w 468360"/>
              <a:gd name="textAreaRight" fmla="*/ 169200 w 468360"/>
              <a:gd name="textAreaTop" fmla="*/ 44640 h 1724040"/>
              <a:gd name="textAreaBottom" fmla="*/ 1679400 h 17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706400">
            <a:off x="5133240" y="1681560"/>
            <a:ext cx="468360" cy="1724040"/>
          </a:xfrm>
          <a:custGeom>
            <a:avLst/>
            <a:gdLst>
              <a:gd name="textAreaLeft" fmla="*/ 0 w 468360"/>
              <a:gd name="textAreaRight" fmla="*/ 169200 w 468360"/>
              <a:gd name="textAreaTop" fmla="*/ 44640 h 1724040"/>
              <a:gd name="textAreaBottom" fmla="*/ 1679400 h 17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75240" y="1700280"/>
            <a:ext cx="1689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 Modul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5600" y="1989000"/>
            <a:ext cx="1689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 Modul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86600" y="6237360"/>
            <a:ext cx="567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ocated in Hall C  -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INFN Gran Sasso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6645" t="0" r="4549" b="0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8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OPERA Detector - overview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35280" y="692280"/>
            <a:ext cx="536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ulsion - Counter Hybrid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03640" y="6461280"/>
            <a:ext cx="5940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ocated in Hall C  - 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INFN Gran Sasso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51400" y="1341360"/>
            <a:ext cx="2892600" cy="210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・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C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ick Target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・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rget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・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tr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　　　　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・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ann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d-ou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Emulsion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6419000">
            <a:off x="4603680" y="1395000"/>
            <a:ext cx="647640" cy="5479920"/>
          </a:xfrm>
          <a:custGeom>
            <a:avLst/>
            <a:gdLst>
              <a:gd name="textAreaLeft" fmla="*/ 414000 w 647640"/>
              <a:gd name="textAreaRight" fmla="*/ 648000 w 647640"/>
              <a:gd name="textAreaTop" fmla="*/ 142920 h 5479920"/>
              <a:gd name="textAreaBottom" fmla="*/ 5337000 h 547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38"/>
                </a:lnTo>
                <a:cubicBezTo>
                  <a:pt x="10800" y="10038"/>
                  <a:pt x="5400" y="10938"/>
                  <a:pt x="0" y="10938"/>
                </a:cubicBezTo>
                <a:cubicBezTo>
                  <a:pt x="5400" y="10938"/>
                  <a:pt x="10800" y="11838"/>
                  <a:pt x="10800" y="127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89080" y="4581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5730200">
            <a:off x="8303040" y="3391200"/>
            <a:ext cx="347760" cy="1330560"/>
          </a:xfrm>
          <a:custGeom>
            <a:avLst/>
            <a:gdLst>
              <a:gd name="textAreaLeft" fmla="*/ 222120 w 347760"/>
              <a:gd name="textAreaRight" fmla="*/ 348120 w 347760"/>
              <a:gd name="textAreaTop" fmla="*/ 34560 h 1330560"/>
              <a:gd name="textAreaBottom" fmla="*/ 1296000 h 133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38"/>
                </a:lnTo>
                <a:cubicBezTo>
                  <a:pt x="10800" y="10038"/>
                  <a:pt x="5400" y="10938"/>
                  <a:pt x="0" y="10938"/>
                </a:cubicBezTo>
                <a:cubicBezTo>
                  <a:pt x="5400" y="10938"/>
                  <a:pt x="10800" y="11838"/>
                  <a:pt x="10800" y="127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57800" y="429264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rcRect l="6645" t="0" r="4549" b="0"/>
          <a:stretch/>
        </p:blipFill>
        <p:spPr>
          <a:xfrm>
            <a:off x="0" y="-468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rick Tar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87640" y="476280"/>
            <a:ext cx="3097080" cy="6381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44480" y="1628640"/>
            <a:ext cx="3729960" cy="180036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Target mass 1.35 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　</a:t>
            </a: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~</a:t>
            </a: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　</a:t>
            </a: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150000 Br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　</a:t>
            </a: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~</a:t>
            </a: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　</a:t>
            </a: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8 million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nuclear Emul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6440" y="6308640"/>
            <a:ext cx="885816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ick filling is finished in July 2008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000 bricks more will be added at the end of 2008 once additional lead will be deliv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01200" y="0"/>
            <a:ext cx="3177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PERA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4356000" y="1916280"/>
            <a:ext cx="4143240" cy="3345840"/>
            <a:chOff x="4356000" y="1916280"/>
            <a:chExt cx="4143240" cy="33458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4356000" y="1916280"/>
              <a:ext cx="4143240" cy="33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975200" y="2014920"/>
              <a:ext cx="183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M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ick Assembling Machin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3456000" cy="46083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277080" y="105264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ion of E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 rot="14869200">
            <a:off x="4043520" y="4389480"/>
            <a:ext cx="1596960" cy="2124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001200" y="0"/>
            <a:ext cx="3177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PERA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597528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 in a dark ro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 ~700 bricks/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488360" cy="56167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MS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ick Manipulating Syste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4897440" cy="367200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067280" y="1341360"/>
            <a:ext cx="3097080" cy="2737080"/>
          </a:xfrm>
          <a:prstGeom prst="rect">
            <a:avLst/>
          </a:prstGeom>
          <a:ln w="18360">
            <a:solidFill>
              <a:srgbClr val="ffffff"/>
            </a:solidFill>
            <a:miter/>
          </a:ln>
          <a:effectLst>
            <a:outerShdw dist="103350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500720" y="4697280"/>
            <a:ext cx="4643280" cy="2160720"/>
          </a:xfrm>
          <a:prstGeom prst="rect">
            <a:avLst/>
          </a:prstGeom>
          <a:ln w="18360">
            <a:solidFill>
              <a:srgbClr val="ffffff"/>
            </a:solidFill>
            <a:miter/>
          </a:ln>
          <a:effectLst>
            <a:outerShdw dist="103350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42" name=""/>
          <p:cNvSpPr/>
          <p:nvPr/>
        </p:nvSpPr>
        <p:spPr>
          <a:xfrm>
            <a:off x="2483280" y="907920"/>
            <a:ext cx="39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ing and Extraction of E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01200" y="0"/>
            <a:ext cx="3177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PERA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rcRect l="2454" t="0" r="8740" b="0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ectronic Det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20721600">
            <a:off x="5796000" y="260280"/>
            <a:ext cx="2592360" cy="6381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94880" y="2205000"/>
            <a:ext cx="2010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tr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206400">
            <a:off x="3562200" y="388440"/>
            <a:ext cx="2827440" cy="6381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77440" y="2637000"/>
            <a:ext cx="21801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rget Tra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01200" y="0"/>
            <a:ext cx="3177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PERA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796840" y="271440"/>
            <a:ext cx="354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Lucida Sans Unicode"/>
              </a:rPr>
              <a:t>Target tr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3680" y="1071720"/>
            <a:ext cx="885204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marL="168120" indent="-168120" algn="just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Lucida Sans Unicode"/>
              </a:rPr>
              <a:t>The main goals of the target tracker are the trigger on the neutrino events and the identification of the brick to be extracted and then analy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just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Lucida Sans Unicode"/>
              </a:rPr>
              <a:t>It is made of plastic scintillator strips, each with a wavelength shifting fi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just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Lucida Sans Unicode"/>
              </a:rPr>
              <a:t>The fibres are connected in groups of 64 to multi-anode Hamamatsu PMTs at both 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144440" y="2733840"/>
            <a:ext cx="2481480" cy="3101760"/>
          </a:xfrm>
          <a:prstGeom prst="rect">
            <a:avLst/>
          </a:prstGeom>
          <a:ln w="0">
            <a:noFill/>
          </a:ln>
          <a:effectLst>
            <a:outerShdw dist="103350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241880" y="3668760"/>
            <a:ext cx="4400640" cy="1062000"/>
          </a:xfrm>
          <a:prstGeom prst="rect">
            <a:avLst/>
          </a:prstGeom>
          <a:ln w="0">
            <a:noFill/>
          </a:ln>
          <a:effectLst>
            <a:outerShdw dist="103350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55" name=""/>
          <p:cNvSpPr/>
          <p:nvPr/>
        </p:nvSpPr>
        <p:spPr>
          <a:xfrm>
            <a:off x="6001200" y="0"/>
            <a:ext cx="3177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PERA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35280" y="5235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patial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~0.8 cm (2.6 cm pit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Scotto Lavina (INFN Napoli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8090-3C78-44DD-B726-056A257BBEE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854440" y="271440"/>
            <a:ext cx="3434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Lucida Sans Unicode"/>
              </a:rPr>
              <a:t>Spectrome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3680" y="1071720"/>
            <a:ext cx="885204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marL="168120" indent="-168120" algn="just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Lucida Sans Unicode"/>
              </a:rPr>
              <a:t>The goal of the spectrometer is the momentum measurement and charge discri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just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Lucida Sans Unicode"/>
              </a:rPr>
              <a:t>In particular it is used to measure and identify muons, in order to reduce charm 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just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Lucida Sans Unicode"/>
              </a:rPr>
              <a:t>It is made by inner tracker (RPC planes) and precision tracker (Drift Tubes) in a 1.5 T magnetic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335400" y="2763720"/>
            <a:ext cx="5052960" cy="1643040"/>
          </a:xfrm>
          <a:prstGeom prst="rect">
            <a:avLst/>
          </a:prstGeom>
          <a:ln w="0">
            <a:noFill/>
          </a:ln>
          <a:effectLst>
            <a:outerShdw dist="103350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660840" y="4894200"/>
            <a:ext cx="4402080" cy="908280"/>
          </a:xfrm>
          <a:prstGeom prst="rect">
            <a:avLst/>
          </a:prstGeom>
          <a:ln w="0">
            <a:noFill/>
          </a:ln>
          <a:effectLst>
            <a:outerShdw dist="103350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61" name=""/>
          <p:cNvSpPr/>
          <p:nvPr/>
        </p:nvSpPr>
        <p:spPr>
          <a:xfrm>
            <a:off x="6001200" y="0"/>
            <a:ext cx="3177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PERA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2708280"/>
            <a:ext cx="2805120" cy="360216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1931040" y="4210200"/>
            <a:ext cx="316440" cy="337320"/>
            <a:chOff x="1931040" y="4210200"/>
            <a:chExt cx="316440" cy="337320"/>
          </a:xfrm>
        </p:grpSpPr>
        <p:sp>
          <p:nvSpPr>
            <p:cNvPr id="264" name=""/>
            <p:cNvSpPr/>
            <p:nvPr/>
          </p:nvSpPr>
          <p:spPr>
            <a:xfrm>
              <a:off x="1931040" y="42102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93680" y="4246200"/>
              <a:ext cx="22536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 flipV="1">
            <a:off x="1871640" y="4175280"/>
            <a:ext cx="0" cy="255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01520" y="4299120"/>
            <a:ext cx="316440" cy="337320"/>
            <a:chOff x="101520" y="4299120"/>
            <a:chExt cx="316440" cy="337320"/>
          </a:xfrm>
        </p:grpSpPr>
        <p:sp>
          <p:nvSpPr>
            <p:cNvPr id="268" name=""/>
            <p:cNvSpPr/>
            <p:nvPr/>
          </p:nvSpPr>
          <p:spPr>
            <a:xfrm>
              <a:off x="101520" y="42991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3440" y="4335120"/>
              <a:ext cx="22644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69800" y="4363920"/>
            <a:ext cx="0" cy="255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. Scotto Lavina (INFN Napoli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00B-D4CF-4E20-839B-2289B5C88D8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automated microsco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0" y="2249640"/>
            <a:ext cx="3960720" cy="27018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01480" y="2263680"/>
            <a:ext cx="3638880" cy="2727360"/>
          </a:xfrm>
          <a:prstGeom prst="rect">
            <a:avLst/>
          </a:prstGeom>
          <a:ln w="21600">
            <a:solidFill>
              <a:srgbClr val="000000"/>
            </a:solidFill>
            <a:miter/>
          </a:ln>
        </p:spPr>
      </p:pic>
      <p:sp>
        <p:nvSpPr>
          <p:cNvPr id="274" name=""/>
          <p:cNvSpPr/>
          <p:nvPr/>
        </p:nvSpPr>
        <p:spPr>
          <a:xfrm>
            <a:off x="942840" y="1197000"/>
            <a:ext cx="7589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just">
              <a:lnSpc>
                <a:spcPct val="93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~30 bricks will be daily extracted from the target and analy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9640" y="4408560"/>
            <a:ext cx="2637000" cy="533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ustomized commercial optics and mechanic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71480" y="1844640"/>
            <a:ext cx="2859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uropean scann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808600" y="1855800"/>
            <a:ext cx="1581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-UTS (Jap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3280" y="2263680"/>
            <a:ext cx="1878120" cy="533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canning speed: 20cm</a:t>
            </a:r>
            <a:r>
              <a:rPr b="1" lang="en-GB" sz="1600" spc="-1" strike="noStrike" baseline="33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6920" y="5445000"/>
            <a:ext cx="3117960" cy="3078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synchronous DAQ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5013360"/>
            <a:ext cx="433440" cy="360360"/>
          </a:xfrm>
          <a:prstGeom prst="downArrow">
            <a:avLst>
              <a:gd name="adj1" fmla="val 31176"/>
              <a:gd name="adj2" fmla="val 47519"/>
            </a:avLst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43640" y="2320920"/>
            <a:ext cx="2022480" cy="533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High speed CMOS camera (3 k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88000" y="2897280"/>
            <a:ext cx="1878120" cy="533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iezo-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 l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4626000"/>
            <a:ext cx="3887640" cy="3078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Hardware corded  algorithm (FPG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59280" y="5445000"/>
            <a:ext cx="3117960" cy="3078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synchronous DAQ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27640" y="5013360"/>
            <a:ext cx="432000" cy="360360"/>
          </a:xfrm>
          <a:prstGeom prst="downArrow">
            <a:avLst>
              <a:gd name="adj1" fmla="val 31176"/>
              <a:gd name="adj2" fmla="val 47519"/>
            </a:avLst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87440" y="6145200"/>
            <a:ext cx="2361600" cy="398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 Data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57600" y="2235240"/>
            <a:ext cx="1878120" cy="533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canning speed: 72cm</a:t>
            </a:r>
            <a:r>
              <a:rPr b="1" lang="en-GB" sz="1600" spc="-1" strike="noStrike" baseline="33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62200" y="5776920"/>
            <a:ext cx="433440" cy="360360"/>
          </a:xfrm>
          <a:prstGeom prst="downArrow">
            <a:avLst>
              <a:gd name="adj1" fmla="val 31176"/>
              <a:gd name="adj2" fmla="val 47519"/>
            </a:avLst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04120" y="5776920"/>
            <a:ext cx="431640" cy="360360"/>
          </a:xfrm>
          <a:prstGeom prst="downArrow">
            <a:avLst>
              <a:gd name="adj1" fmla="val 31176"/>
              <a:gd name="adj2" fmla="val 47519"/>
            </a:avLst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05440" y="6199200"/>
            <a:ext cx="1160640" cy="337320"/>
          </a:xfrm>
          <a:prstGeom prst="rect">
            <a:avLst/>
          </a:prstGeom>
          <a:solidFill>
            <a:srgbClr val="80808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45920" y="6205680"/>
            <a:ext cx="1160640" cy="337320"/>
          </a:xfrm>
          <a:prstGeom prst="rect">
            <a:avLst/>
          </a:prstGeom>
          <a:solidFill>
            <a:srgbClr val="80808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2640600" y="6194880"/>
            <a:ext cx="333360" cy="360360"/>
          </a:xfrm>
          <a:prstGeom prst="downArrow">
            <a:avLst>
              <a:gd name="adj1" fmla="val 31176"/>
              <a:gd name="adj2" fmla="val 51367"/>
            </a:avLst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400000">
            <a:off x="5737320" y="6194880"/>
            <a:ext cx="333360" cy="360360"/>
          </a:xfrm>
          <a:prstGeom prst="downArrow">
            <a:avLst>
              <a:gd name="adj1" fmla="val 31176"/>
              <a:gd name="adj2" fmla="val 51367"/>
            </a:avLst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49360" y="642960"/>
            <a:ext cx="80470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81080" cy="809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7324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16040" y="628560"/>
            <a:ext cx="7713720" cy="5600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198440" y="1557360"/>
            <a:ext cx="3559320" cy="1313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day !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 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 bricks already tag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xpected : 2200 bri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2480" y="-27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8 Run : One Example of Neutrino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81160" y="1052640"/>
            <a:ext cx="8396280" cy="5805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830840" y="1657440"/>
            <a:ext cx="360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788000" y="5300640"/>
            <a:ext cx="360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53640"/>
            <a:ext cx="8496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8 Run : One Example of Neutrino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0" t="0" r="0" b="20170"/>
          <a:stretch/>
        </p:blipFill>
        <p:spPr>
          <a:xfrm>
            <a:off x="128520" y="870120"/>
            <a:ext cx="8620200" cy="598788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3611160" y="2453760"/>
            <a:ext cx="5127120" cy="1185840"/>
            <a:chOff x="3611160" y="2453760"/>
            <a:chExt cx="5127120" cy="1185840"/>
          </a:xfrm>
        </p:grpSpPr>
        <p:sp>
          <p:nvSpPr>
            <p:cNvPr id="305" name=""/>
            <p:cNvSpPr/>
            <p:nvPr/>
          </p:nvSpPr>
          <p:spPr>
            <a:xfrm>
              <a:off x="4644000" y="2997000"/>
              <a:ext cx="4094280" cy="64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he most probable brick is dete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y brick finding algorith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3611160" y="2453760"/>
              <a:ext cx="1079640" cy="576360"/>
            </a:xfrm>
            <a:prstGeom prst="line">
              <a:avLst/>
            </a:prstGeom>
            <a:ln w="540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618560" y="2349360"/>
            <a:ext cx="1657800" cy="863640"/>
            <a:chOff x="1618560" y="2349360"/>
            <a:chExt cx="1657800" cy="863640"/>
          </a:xfrm>
        </p:grpSpPr>
        <p:sp>
          <p:nvSpPr>
            <p:cNvPr id="308" name=""/>
            <p:cNvSpPr/>
            <p:nvPr/>
          </p:nvSpPr>
          <p:spPr>
            <a:xfrm flipH="1">
              <a:off x="2268000" y="2349360"/>
              <a:ext cx="1008360" cy="8636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18560" y="2384280"/>
              <a:ext cx="1398240" cy="398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11280" y="3284640"/>
            <a:ext cx="6033240" cy="2581200"/>
            <a:chOff x="611280" y="3284640"/>
            <a:chExt cx="6033240" cy="2581200"/>
          </a:xfrm>
        </p:grpSpPr>
        <p:pic>
          <p:nvPicPr>
            <p:cNvPr id="311" name="" descr=""/>
            <p:cNvPicPr/>
            <p:nvPr/>
          </p:nvPicPr>
          <p:blipFill>
            <a:blip r:embed="rId2"/>
            <a:stretch/>
          </p:blipFill>
          <p:spPr>
            <a:xfrm>
              <a:off x="611280" y="3284640"/>
              <a:ext cx="3386160" cy="25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2700360" y="4653000"/>
              <a:ext cx="1440000" cy="7920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26040" y="4761000"/>
              <a:ext cx="3318480" cy="398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velopment → Scan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2720" y="41497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17800" y="407664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4360" y="3933720"/>
              <a:ext cx="431640" cy="142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2160" y="3537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rcRect l="0" t="9069" r="50993" b="48588"/>
          <a:stretch/>
        </p:blipFill>
        <p:spPr>
          <a:xfrm>
            <a:off x="4211640" y="1484280"/>
            <a:ext cx="4392720" cy="53737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S analysis by the Scanning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3382920" cy="2446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348000" y="3573360"/>
            <a:ext cx="515880" cy="1003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347640" y="2060640"/>
            <a:ext cx="1584360" cy="151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3347640" y="4581360"/>
            <a:ext cx="1584360" cy="2276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0360" y="981000"/>
            <a:ext cx="825192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canning Station scans the whole surface of the two emul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faces (CS) and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electing particle tracks found in both p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859280" y="5432400"/>
          <a:ext cx="3889440" cy="1092240"/>
        </p:xfrm>
        <a:graphic>
          <a:graphicData uri="http://schemas.openxmlformats.org/drawingml/2006/table">
            <a:tbl>
              <a:tblPr/>
              <a:tblGrid>
                <a:gridCol w="647640"/>
                <a:gridCol w="792360"/>
                <a:gridCol w="792000"/>
                <a:gridCol w="865080"/>
                <a:gridCol w="792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k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701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70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83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21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90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62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6" name=""/>
          <p:cNvSpPr/>
          <p:nvPr/>
        </p:nvSpPr>
        <p:spPr>
          <a:xfrm>
            <a:off x="324000" y="5661000"/>
            <a:ext cx="34560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S result validates the bric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ich is then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ent to the developin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2133720"/>
            <a:ext cx="3166920" cy="7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4360" y="2206800"/>
            <a:ext cx="3166920" cy="7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880" y="239220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24000" y="22050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24000" y="227628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ocation of the neutrino interaction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EC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1079640" y="2391840"/>
            <a:ext cx="3995640" cy="29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2678760" y="3810240"/>
            <a:ext cx="400356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3679200" y="3069000"/>
            <a:ext cx="323640" cy="468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643280" y="260784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43280" y="34005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43280" y="361476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780000" y="2681280"/>
            <a:ext cx="863280" cy="647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3780000" y="3328560"/>
            <a:ext cx="863280" cy="71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51280" y="3328920"/>
            <a:ext cx="720720" cy="287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92360" y="188424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63640" y="18874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3528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0800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7964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5092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24000" y="18874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9564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6692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3856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41128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8292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5420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2728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0036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77164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84328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1636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98764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05928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13200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0364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7492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4656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1964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9092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56220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63528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70836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000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5128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2436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9564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06728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4036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99040" y="18874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72120" y="18874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343400" y="18874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14680" y="18874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87760" y="18860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67820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485080" y="59929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C 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432680" y="5992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95280" y="350028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5080" y="2924280"/>
            <a:ext cx="11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tri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003640" y="2673360"/>
            <a:ext cx="3889440" cy="1618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edictions from the C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followed back in the bric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oking for the position w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neutrino interaction occur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tex Reconstruction in EC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rcRect l="0" t="0" r="0" b="2986"/>
          <a:stretch/>
        </p:blipFill>
        <p:spPr>
          <a:xfrm>
            <a:off x="3679920" y="3849840"/>
            <a:ext cx="2232000" cy="19382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781800" y="39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5940360" y="3860640"/>
            <a:ext cx="2232000" cy="19288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013800" y="39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4211640" y="1052640"/>
            <a:ext cx="3384720" cy="27684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4285080" y="1197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004720" y="115092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cks found in E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68360" y="1932120"/>
          <a:ext cx="3240000" cy="1674720"/>
        </p:xfrm>
        <a:graphic>
          <a:graphicData uri="http://schemas.openxmlformats.org/drawingml/2006/table">
            <a:tbl>
              <a:tblPr/>
              <a:tblGrid>
                <a:gridCol w="1209600"/>
                <a:gridCol w="1131840"/>
                <a:gridCol w="898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3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03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7" name=""/>
          <p:cNvSpPr/>
          <p:nvPr/>
        </p:nvSpPr>
        <p:spPr>
          <a:xfrm>
            <a:off x="468360" y="1341360"/>
            <a:ext cx="324000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structed track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vert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420800" y="3429000"/>
            <a:ext cx="3190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TX:(116213.5 51204.3 63617.2)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403640" y="6321600"/>
            <a:ext cx="652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vertex is confirmed and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ll data are stored into the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189080" y="272880"/>
            <a:ext cx="689580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2007 Run : a charm candidate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417600" y="1042920"/>
            <a:ext cx="3868560" cy="4081680"/>
          </a:xfrm>
          <a:prstGeom prst="rect">
            <a:avLst/>
          </a:prstGeom>
          <a:ln w="34200">
            <a:solidFill>
              <a:srgbClr val="000000"/>
            </a:solidFill>
            <a:miter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4761000" y="923760"/>
            <a:ext cx="3990960" cy="38674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5292720" y="5013360"/>
            <a:ext cx="3052800" cy="1490760"/>
          </a:xfrm>
          <a:prstGeom prst="rect">
            <a:avLst/>
          </a:prstGeom>
          <a:ln w="32400">
            <a:solidFill>
              <a:srgbClr val="000000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2058840" y="4289400"/>
            <a:ext cx="2208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ectromagnetic shower (15 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1897200" y="3765240"/>
            <a:ext cx="527040" cy="498600"/>
          </a:xfrm>
          <a:prstGeom prst="line">
            <a:avLst/>
          </a:prstGeom>
          <a:ln w="36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 and Fu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1760" y="1852560"/>
            <a:ext cx="7954200" cy="44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The OPERA detector is taking data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OPERA proved the possibility of producing emulsion 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t the kiloton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Stream of locating Neutrino Interactions is systematica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running continu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Now: run 2008 started since June 18th, 123 days of data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Expected 2.28x10</a:t>
            </a:r>
            <a:r>
              <a:rPr b="1" lang="ja-JP" sz="20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p.o.t. and 1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 far, collected 6x10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p.o.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The 2008 run will produce important results for OPERA : ev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for efficiency and BG estimates (charm,…) and maybe ~1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??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18760" y="102960"/>
            <a:ext cx="6931080" cy="733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83520" rIns="83520" tIns="41760" bIns="4176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177840"/>
                <a:tab algn="l" pos="357120"/>
                <a:tab algn="l" pos="536400"/>
                <a:tab algn="l" pos="716040"/>
                <a:tab algn="l" pos="895320"/>
                <a:tab algn="l" pos="1074600"/>
                <a:tab algn="l" pos="1254240"/>
                <a:tab algn="l" pos="1433520"/>
                <a:tab algn="l" pos="1612800"/>
                <a:tab algn="l" pos="1792440"/>
                <a:tab algn="l" pos="1971720"/>
                <a:tab algn="l" pos="2151000"/>
                <a:tab algn="l" pos="2330280"/>
                <a:tab algn="l" pos="2509920"/>
                <a:tab algn="l" pos="2689200"/>
                <a:tab algn="l" pos="2868480"/>
                <a:tab algn="l" pos="3048120"/>
                <a:tab algn="l" pos="3227400"/>
                <a:tab algn="l" pos="3406680"/>
                <a:tab algn="l" pos="358632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  <a:tab algn="l" pos="10225080"/>
                <a:tab algn="l" pos="10404360"/>
                <a:tab algn="l" pos="10584000"/>
                <a:tab algn="l" pos="1076328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008 run : expected stat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57200" y="1052640"/>
            <a:ext cx="7065720" cy="2113920"/>
            <a:chOff x="457200" y="1052640"/>
            <a:chExt cx="7065720" cy="2113920"/>
          </a:xfrm>
        </p:grpSpPr>
        <p:sp>
          <p:nvSpPr>
            <p:cNvPr id="411" name=""/>
            <p:cNvSpPr/>
            <p:nvPr/>
          </p:nvSpPr>
          <p:spPr>
            <a:xfrm>
              <a:off x="5755680" y="2819880"/>
              <a:ext cx="1766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marL="309600" indent="-309600" algn="r">
                <a:lnSpc>
                  <a:spcPct val="100000"/>
                </a:lnSpc>
                <a:tabLst>
                  <a:tab algn="l" pos="0"/>
                  <a:tab algn="l" pos="309600"/>
                  <a:tab algn="l" pos="471600"/>
                  <a:tab algn="l" pos="633240"/>
                  <a:tab algn="l" pos="797040"/>
                  <a:tab algn="l" pos="958680"/>
                  <a:tab algn="l" pos="1122480"/>
                  <a:tab algn="l" pos="1284120"/>
                  <a:tab algn="l" pos="1447920"/>
                  <a:tab algn="l" pos="1609560"/>
                  <a:tab algn="l" pos="1773360"/>
                  <a:tab algn="l" pos="1935000"/>
                  <a:tab algn="l" pos="2098800"/>
                  <a:tab algn="l" pos="2260440"/>
                  <a:tab algn="l" pos="2424240"/>
                  <a:tab algn="l" pos="2585880"/>
                  <a:tab algn="l" pos="2749680"/>
                  <a:tab algn="l" pos="2911320"/>
                  <a:tab algn="l" pos="3075120"/>
                  <a:tab algn="l" pos="3236760"/>
                  <a:tab algn="l" pos="3400560"/>
                  <a:tab algn="l" pos="356220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  <a:tab algn="l" pos="670392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4.5 10</a:t>
              </a:r>
              <a:r>
                <a:rPr b="1" lang="en-GB" sz="1500" spc="-1" strike="noStrike" baseline="30000">
                  <a:solidFill>
                    <a:srgbClr val="000000"/>
                  </a:solidFill>
                  <a:latin typeface="Comic Sans MS"/>
                  <a:ea typeface="ＭＳ 明朝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89160" y="2819880"/>
              <a:ext cx="1766160" cy="344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marL="309600" indent="-309600" algn="r">
                <a:lnSpc>
                  <a:spcPct val="100000"/>
                </a:lnSpc>
                <a:tabLst>
                  <a:tab algn="l" pos="0"/>
                  <a:tab algn="l" pos="309600"/>
                  <a:tab algn="l" pos="471600"/>
                  <a:tab algn="l" pos="633240"/>
                  <a:tab algn="l" pos="797040"/>
                  <a:tab algn="l" pos="958680"/>
                  <a:tab algn="l" pos="1122480"/>
                  <a:tab algn="l" pos="1284120"/>
                  <a:tab algn="l" pos="1447920"/>
                  <a:tab algn="l" pos="1609560"/>
                  <a:tab algn="l" pos="1773360"/>
                  <a:tab algn="l" pos="1935000"/>
                  <a:tab algn="l" pos="2098800"/>
                  <a:tab algn="l" pos="2260440"/>
                  <a:tab algn="l" pos="2424240"/>
                  <a:tab algn="l" pos="2585880"/>
                  <a:tab algn="l" pos="2749680"/>
                  <a:tab algn="l" pos="2911320"/>
                  <a:tab algn="l" pos="3075120"/>
                  <a:tab algn="l" pos="3236760"/>
                  <a:tab algn="l" pos="3400560"/>
                  <a:tab algn="l" pos="356220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  <a:tab algn="l" pos="670392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2.9 10</a:t>
              </a:r>
              <a:r>
                <a:rPr b="1" lang="en-GB" sz="1500" spc="-1" strike="noStrike" baseline="30000">
                  <a:solidFill>
                    <a:srgbClr val="000000"/>
                  </a:solidFill>
                  <a:latin typeface="Comic Sans MS"/>
                  <a:ea typeface="ＭＳ 明朝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55640" y="2819880"/>
              <a:ext cx="143352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marL="309600" indent="-309600" algn="r">
                <a:lnSpc>
                  <a:spcPct val="100000"/>
                </a:lnSpc>
                <a:tabLst>
                  <a:tab algn="l" pos="0"/>
                  <a:tab algn="l" pos="309600"/>
                  <a:tab algn="l" pos="471600"/>
                  <a:tab algn="l" pos="633240"/>
                  <a:tab algn="l" pos="797040"/>
                  <a:tab algn="l" pos="958680"/>
                  <a:tab algn="l" pos="1122480"/>
                  <a:tab algn="l" pos="1284120"/>
                  <a:tab algn="l" pos="1447920"/>
                  <a:tab algn="l" pos="1609560"/>
                  <a:tab algn="l" pos="1773360"/>
                  <a:tab algn="l" pos="1935000"/>
                  <a:tab algn="l" pos="2098800"/>
                  <a:tab algn="l" pos="2260440"/>
                  <a:tab algn="l" pos="2424240"/>
                  <a:tab algn="l" pos="2585880"/>
                  <a:tab algn="l" pos="2749680"/>
                  <a:tab algn="l" pos="2911320"/>
                  <a:tab algn="l" pos="3075120"/>
                  <a:tab algn="l" pos="3236760"/>
                  <a:tab algn="l" pos="3400560"/>
                  <a:tab algn="l" pos="356220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  <a:tab algn="l" pos="670392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2.1 10</a:t>
              </a:r>
              <a:r>
                <a:rPr b="1" lang="en-GB" sz="1500" spc="-1" strike="noStrike" baseline="30000">
                  <a:solidFill>
                    <a:srgbClr val="000000"/>
                  </a:solidFill>
                  <a:latin typeface="Comic Sans MS"/>
                  <a:ea typeface="ＭＳ 明朝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7200" y="2819880"/>
              <a:ext cx="20970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marL="309600" indent="-309600">
                <a:lnSpc>
                  <a:spcPct val="100000"/>
                </a:lnSpc>
                <a:tabLst>
                  <a:tab algn="l" pos="0"/>
                  <a:tab algn="l" pos="309600"/>
                  <a:tab algn="l" pos="471600"/>
                  <a:tab algn="l" pos="633240"/>
                  <a:tab algn="l" pos="797040"/>
                  <a:tab algn="l" pos="958680"/>
                  <a:tab algn="l" pos="1122480"/>
                  <a:tab algn="l" pos="1284120"/>
                  <a:tab algn="l" pos="1447920"/>
                  <a:tab algn="l" pos="1609560"/>
                  <a:tab algn="l" pos="1773360"/>
                  <a:tab algn="l" pos="1935000"/>
                  <a:tab algn="l" pos="2098800"/>
                  <a:tab algn="l" pos="2260440"/>
                  <a:tab algn="l" pos="2424240"/>
                  <a:tab algn="l" pos="2585880"/>
                  <a:tab algn="l" pos="2749680"/>
                  <a:tab algn="l" pos="2911320"/>
                  <a:tab algn="l" pos="3075120"/>
                  <a:tab algn="l" pos="3236760"/>
                  <a:tab algn="l" pos="3400560"/>
                  <a:tab algn="l" pos="356220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  <a:tab algn="l" pos="670392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Integrated po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55680" y="2472120"/>
              <a:ext cx="176616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marL="309600" indent="-309600" algn="r">
                <a:lnSpc>
                  <a:spcPct val="100000"/>
                </a:lnSpc>
                <a:tabLst>
                  <a:tab algn="l" pos="0"/>
                  <a:tab algn="l" pos="309600"/>
                  <a:tab algn="l" pos="471600"/>
                  <a:tab algn="l" pos="633240"/>
                  <a:tab algn="l" pos="797040"/>
                  <a:tab algn="l" pos="958680"/>
                  <a:tab algn="l" pos="1122480"/>
                  <a:tab algn="l" pos="1284120"/>
                  <a:tab algn="l" pos="1447920"/>
                  <a:tab algn="l" pos="1609560"/>
                  <a:tab algn="l" pos="1773360"/>
                  <a:tab algn="l" pos="1935000"/>
                  <a:tab algn="l" pos="2098800"/>
                  <a:tab algn="l" pos="2260440"/>
                  <a:tab algn="l" pos="2424240"/>
                  <a:tab algn="l" pos="2585880"/>
                  <a:tab algn="l" pos="2749680"/>
                  <a:tab algn="l" pos="2911320"/>
                  <a:tab algn="l" pos="3075120"/>
                  <a:tab algn="l" pos="3236760"/>
                  <a:tab algn="l" pos="3400560"/>
                  <a:tab algn="l" pos="356220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  <a:tab algn="l" pos="670392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55%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89160" y="2472120"/>
              <a:ext cx="1766160" cy="346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marL="309600" indent="-309600" algn="r">
                <a:lnSpc>
                  <a:spcPct val="100000"/>
                </a:lnSpc>
                <a:tabLst>
                  <a:tab algn="l" pos="0"/>
                  <a:tab algn="l" pos="309600"/>
                  <a:tab algn="l" pos="471600"/>
                  <a:tab algn="l" pos="633240"/>
                  <a:tab algn="l" pos="797040"/>
                  <a:tab algn="l" pos="958680"/>
                  <a:tab algn="l" pos="1122480"/>
                  <a:tab algn="l" pos="1284120"/>
                  <a:tab algn="l" pos="1447920"/>
                  <a:tab algn="l" pos="1609560"/>
                  <a:tab algn="l" pos="1773360"/>
                  <a:tab algn="l" pos="1935000"/>
                  <a:tab algn="l" pos="2098800"/>
                  <a:tab algn="l" pos="2260440"/>
                  <a:tab algn="l" pos="2424240"/>
                  <a:tab algn="l" pos="2585880"/>
                  <a:tab algn="l" pos="2749680"/>
                  <a:tab algn="l" pos="2911320"/>
                  <a:tab algn="l" pos="3075120"/>
                  <a:tab algn="l" pos="3236760"/>
                  <a:tab algn="l" pos="3400560"/>
                  <a:tab algn="l" pos="356220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  <a:tab algn="l" pos="670392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80%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55640" y="2472120"/>
              <a:ext cx="14335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marL="309600" indent="-309600" algn="r">
                <a:lnSpc>
                  <a:spcPct val="100000"/>
                </a:lnSpc>
                <a:tabLst>
                  <a:tab algn="l" pos="0"/>
                  <a:tab algn="l" pos="309600"/>
                  <a:tab algn="l" pos="471600"/>
                  <a:tab algn="l" pos="633240"/>
                  <a:tab algn="l" pos="797040"/>
                  <a:tab algn="l" pos="958680"/>
                  <a:tab algn="l" pos="1122480"/>
                  <a:tab algn="l" pos="1284120"/>
                  <a:tab algn="l" pos="1447920"/>
                  <a:tab algn="l" pos="1609560"/>
                  <a:tab algn="l" pos="1773360"/>
                  <a:tab algn="l" pos="1935000"/>
                  <a:tab algn="l" pos="2098800"/>
                  <a:tab algn="l" pos="2260440"/>
                  <a:tab algn="l" pos="2424240"/>
                  <a:tab algn="l" pos="2585880"/>
                  <a:tab algn="l" pos="2749680"/>
                  <a:tab algn="l" pos="2911320"/>
                  <a:tab algn="l" pos="3075120"/>
                  <a:tab algn="l" pos="3236760"/>
                  <a:tab algn="l" pos="3400560"/>
                  <a:tab algn="l" pos="356220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  <a:tab algn="l" pos="670392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70%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7200" y="2472120"/>
              <a:ext cx="209700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marL="309600" indent="-309600">
                <a:lnSpc>
                  <a:spcPct val="100000"/>
                </a:lnSpc>
                <a:tabLst>
                  <a:tab algn="l" pos="0"/>
                  <a:tab algn="l" pos="309600"/>
                  <a:tab algn="l" pos="471600"/>
                  <a:tab algn="l" pos="633240"/>
                  <a:tab algn="l" pos="797040"/>
                  <a:tab algn="l" pos="958680"/>
                  <a:tab algn="l" pos="1122480"/>
                  <a:tab algn="l" pos="1284120"/>
                  <a:tab algn="l" pos="1447920"/>
                  <a:tab algn="l" pos="1609560"/>
                  <a:tab algn="l" pos="1773360"/>
                  <a:tab algn="l" pos="1935000"/>
                  <a:tab algn="l" pos="2098800"/>
                  <a:tab algn="l" pos="2260440"/>
                  <a:tab algn="l" pos="2424240"/>
                  <a:tab algn="l" pos="2585880"/>
                  <a:tab algn="l" pos="2749680"/>
                  <a:tab algn="l" pos="2911320"/>
                  <a:tab algn="l" pos="3075120"/>
                  <a:tab algn="l" pos="3236760"/>
                  <a:tab algn="l" pos="3400560"/>
                  <a:tab algn="l" pos="356220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  <a:tab algn="l" pos="670392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efficienc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55680" y="2126880"/>
              <a:ext cx="1766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marL="309600" indent="-309600" algn="r">
                <a:lnSpc>
                  <a:spcPct val="100000"/>
                </a:lnSpc>
                <a:tabLst>
                  <a:tab algn="l" pos="0"/>
                  <a:tab algn="l" pos="309600"/>
                  <a:tab algn="l" pos="471600"/>
                  <a:tab algn="l" pos="633240"/>
                  <a:tab algn="l" pos="797040"/>
                  <a:tab algn="l" pos="958680"/>
                  <a:tab algn="l" pos="1122480"/>
                  <a:tab algn="l" pos="1284120"/>
                  <a:tab algn="l" pos="1447920"/>
                  <a:tab algn="l" pos="1609560"/>
                  <a:tab algn="l" pos="1773360"/>
                  <a:tab algn="l" pos="1935000"/>
                  <a:tab algn="l" pos="2098800"/>
                  <a:tab algn="l" pos="2260440"/>
                  <a:tab algn="l" pos="2424240"/>
                  <a:tab algn="l" pos="2585880"/>
                  <a:tab algn="l" pos="2749680"/>
                  <a:tab algn="l" pos="2911320"/>
                  <a:tab algn="l" pos="3075120"/>
                  <a:tab algn="l" pos="3236760"/>
                  <a:tab algn="l" pos="3400560"/>
                  <a:tab algn="l" pos="356220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  <a:tab algn="l" pos="670392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4.8 10</a:t>
              </a:r>
              <a:r>
                <a:rPr b="1" lang="en-GB" sz="1500" spc="-1" strike="noStrike" baseline="30000">
                  <a:solidFill>
                    <a:srgbClr val="000000"/>
                  </a:solidFill>
                  <a:latin typeface="Comic Sans MS"/>
                  <a:ea typeface="ＭＳ 明朝"/>
                </a:rPr>
                <a:t>1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989160" y="2126880"/>
              <a:ext cx="1766160" cy="344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marL="309600" indent="-309600" algn="r">
                <a:lnSpc>
                  <a:spcPct val="100000"/>
                </a:lnSpc>
                <a:tabLst>
                  <a:tab algn="l" pos="0"/>
                  <a:tab algn="l" pos="309600"/>
                  <a:tab algn="l" pos="471600"/>
                  <a:tab algn="l" pos="633240"/>
                  <a:tab algn="l" pos="797040"/>
                  <a:tab algn="l" pos="958680"/>
                  <a:tab algn="l" pos="1122480"/>
                  <a:tab algn="l" pos="1284120"/>
                  <a:tab algn="l" pos="1447920"/>
                  <a:tab algn="l" pos="1609560"/>
                  <a:tab algn="l" pos="1773360"/>
                  <a:tab algn="l" pos="1935000"/>
                  <a:tab algn="l" pos="2098800"/>
                  <a:tab algn="l" pos="2260440"/>
                  <a:tab algn="l" pos="2424240"/>
                  <a:tab algn="l" pos="2585880"/>
                  <a:tab algn="l" pos="2749680"/>
                  <a:tab algn="l" pos="2911320"/>
                  <a:tab algn="l" pos="3075120"/>
                  <a:tab algn="l" pos="3236760"/>
                  <a:tab algn="l" pos="3400560"/>
                  <a:tab algn="l" pos="356220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  <a:tab algn="l" pos="670392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4.5 10</a:t>
              </a:r>
              <a:r>
                <a:rPr b="1" lang="en-GB" sz="1500" spc="-1" strike="noStrike" baseline="30000">
                  <a:solidFill>
                    <a:srgbClr val="000000"/>
                  </a:solidFill>
                  <a:latin typeface="Comic Sans MS"/>
                  <a:ea typeface="ＭＳ 明朝"/>
                </a:rPr>
                <a:t>1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5640" y="2126880"/>
              <a:ext cx="143352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marL="309600" indent="-309600" algn="r">
                <a:lnSpc>
                  <a:spcPct val="100000"/>
                </a:lnSpc>
                <a:tabLst>
                  <a:tab algn="l" pos="0"/>
                  <a:tab algn="l" pos="309600"/>
                  <a:tab algn="l" pos="471600"/>
                  <a:tab algn="l" pos="633240"/>
                  <a:tab algn="l" pos="797040"/>
                  <a:tab algn="l" pos="958680"/>
                  <a:tab algn="l" pos="1122480"/>
                  <a:tab algn="l" pos="1284120"/>
                  <a:tab algn="l" pos="1447920"/>
                  <a:tab algn="l" pos="1609560"/>
                  <a:tab algn="l" pos="1773360"/>
                  <a:tab algn="l" pos="1935000"/>
                  <a:tab algn="l" pos="2098800"/>
                  <a:tab algn="l" pos="2260440"/>
                  <a:tab algn="l" pos="2424240"/>
                  <a:tab algn="l" pos="2585880"/>
                  <a:tab algn="l" pos="2749680"/>
                  <a:tab algn="l" pos="2911320"/>
                  <a:tab algn="l" pos="3075120"/>
                  <a:tab algn="l" pos="3236760"/>
                  <a:tab algn="l" pos="3400560"/>
                  <a:tab algn="l" pos="356220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  <a:tab algn="l" pos="670392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3.8 10</a:t>
              </a:r>
              <a:r>
                <a:rPr b="1" lang="en-GB" sz="1500" spc="-1" strike="noStrike" baseline="30000">
                  <a:solidFill>
                    <a:srgbClr val="000000"/>
                  </a:solidFill>
                  <a:latin typeface="Comic Sans MS"/>
                  <a:ea typeface="ＭＳ 明朝"/>
                </a:rPr>
                <a:t>1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7200" y="2126880"/>
              <a:ext cx="20970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marL="309600" indent="-309600">
                <a:lnSpc>
                  <a:spcPct val="100000"/>
                </a:lnSpc>
                <a:tabLst>
                  <a:tab algn="l" pos="0"/>
                  <a:tab algn="l" pos="309600"/>
                  <a:tab algn="l" pos="471600"/>
                  <a:tab algn="l" pos="633240"/>
                  <a:tab algn="l" pos="797040"/>
                  <a:tab algn="l" pos="958680"/>
                  <a:tab algn="l" pos="1122480"/>
                  <a:tab algn="l" pos="1284120"/>
                  <a:tab algn="l" pos="1447920"/>
                  <a:tab algn="l" pos="1609560"/>
                  <a:tab algn="l" pos="1773360"/>
                  <a:tab algn="l" pos="1935000"/>
                  <a:tab algn="l" pos="2098800"/>
                  <a:tab algn="l" pos="2260440"/>
                  <a:tab algn="l" pos="2424240"/>
                  <a:tab algn="l" pos="2585880"/>
                  <a:tab algn="l" pos="2749680"/>
                  <a:tab algn="l" pos="2911320"/>
                  <a:tab algn="l" pos="3075120"/>
                  <a:tab algn="l" pos="3236760"/>
                  <a:tab algn="l" pos="3400560"/>
                  <a:tab algn="l" pos="356220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  <a:tab algn="l" pos="670392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Circulating prot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55680" y="1777320"/>
              <a:ext cx="1766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marL="309600" indent="-309600" algn="ctr">
                <a:lnSpc>
                  <a:spcPct val="100000"/>
                </a:lnSpc>
                <a:tabLst>
                  <a:tab algn="l" pos="0"/>
                  <a:tab algn="l" pos="309600"/>
                  <a:tab algn="l" pos="471600"/>
                  <a:tab algn="l" pos="633240"/>
                  <a:tab algn="l" pos="797040"/>
                  <a:tab algn="l" pos="958680"/>
                  <a:tab algn="l" pos="1122480"/>
                  <a:tab algn="l" pos="1284120"/>
                  <a:tab algn="l" pos="1447920"/>
                  <a:tab algn="l" pos="1609560"/>
                  <a:tab algn="l" pos="1773360"/>
                  <a:tab algn="l" pos="1935000"/>
                  <a:tab algn="l" pos="2098800"/>
                  <a:tab algn="l" pos="2260440"/>
                  <a:tab algn="l" pos="2424240"/>
                  <a:tab algn="l" pos="2585880"/>
                  <a:tab algn="l" pos="2749680"/>
                  <a:tab algn="l" pos="2911320"/>
                  <a:tab algn="l" pos="3075120"/>
                  <a:tab algn="l" pos="3236760"/>
                  <a:tab algn="l" pos="3400560"/>
                  <a:tab algn="l" pos="356220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  <a:tab algn="l" pos="670392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27.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555640" y="1777320"/>
              <a:ext cx="31996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marL="309600" indent="-309600" algn="ctr">
                <a:lnSpc>
                  <a:spcPct val="100000"/>
                </a:lnSpc>
                <a:tabLst>
                  <a:tab algn="l" pos="0"/>
                  <a:tab algn="l" pos="309600"/>
                  <a:tab algn="l" pos="471600"/>
                  <a:tab algn="l" pos="633240"/>
                  <a:tab algn="l" pos="797040"/>
                  <a:tab algn="l" pos="958680"/>
                  <a:tab algn="l" pos="1122480"/>
                  <a:tab algn="l" pos="1284120"/>
                  <a:tab algn="l" pos="1447920"/>
                  <a:tab algn="l" pos="1609560"/>
                  <a:tab algn="l" pos="1773360"/>
                  <a:tab algn="l" pos="1935000"/>
                  <a:tab algn="l" pos="2098800"/>
                  <a:tab algn="l" pos="2260440"/>
                  <a:tab algn="l" pos="2424240"/>
                  <a:tab algn="l" pos="2585880"/>
                  <a:tab algn="l" pos="2749680"/>
                  <a:tab algn="l" pos="2911320"/>
                  <a:tab algn="l" pos="3075120"/>
                  <a:tab algn="l" pos="3236760"/>
                  <a:tab algn="l" pos="3400560"/>
                  <a:tab algn="l" pos="356220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  <a:tab algn="l" pos="670392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48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200" y="1777320"/>
              <a:ext cx="20970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marL="309600" indent="-309600">
                <a:lnSpc>
                  <a:spcPct val="100000"/>
                </a:lnSpc>
                <a:tabLst>
                  <a:tab algn="l" pos="0"/>
                  <a:tab algn="l" pos="309600"/>
                  <a:tab algn="l" pos="471600"/>
                  <a:tab algn="l" pos="633240"/>
                  <a:tab algn="l" pos="797040"/>
                  <a:tab algn="l" pos="958680"/>
                  <a:tab algn="l" pos="1122480"/>
                  <a:tab algn="l" pos="1284120"/>
                  <a:tab algn="l" pos="1447920"/>
                  <a:tab algn="l" pos="1609560"/>
                  <a:tab algn="l" pos="1773360"/>
                  <a:tab algn="l" pos="1935000"/>
                  <a:tab algn="l" pos="2098800"/>
                  <a:tab algn="l" pos="2260440"/>
                  <a:tab algn="l" pos="2424240"/>
                  <a:tab algn="l" pos="2585880"/>
                  <a:tab algn="l" pos="2749680"/>
                  <a:tab algn="l" pos="2911320"/>
                  <a:tab algn="l" pos="3075120"/>
                  <a:tab algn="l" pos="3236760"/>
                  <a:tab algn="l" pos="3400560"/>
                  <a:tab algn="l" pos="356220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  <a:tab algn="l" pos="670392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Super Cycle (sec.)</a:t>
              </a: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55680" y="1432080"/>
              <a:ext cx="176616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marL="309600" indent="-309600" algn="ctr">
                <a:lnSpc>
                  <a:spcPct val="100000"/>
                </a:lnSpc>
                <a:tabLst>
                  <a:tab algn="l" pos="0"/>
                  <a:tab algn="l" pos="309600"/>
                  <a:tab algn="l" pos="471600"/>
                  <a:tab algn="l" pos="633240"/>
                  <a:tab algn="l" pos="797040"/>
                  <a:tab algn="l" pos="958680"/>
                  <a:tab algn="l" pos="1122480"/>
                  <a:tab algn="l" pos="1284120"/>
                  <a:tab algn="l" pos="1447920"/>
                  <a:tab algn="l" pos="1609560"/>
                  <a:tab algn="l" pos="1773360"/>
                  <a:tab algn="l" pos="1935000"/>
                  <a:tab algn="l" pos="2098800"/>
                  <a:tab algn="l" pos="2260440"/>
                  <a:tab algn="l" pos="2424240"/>
                  <a:tab algn="l" pos="2585880"/>
                  <a:tab algn="l" pos="2749680"/>
                  <a:tab algn="l" pos="2911320"/>
                  <a:tab algn="l" pos="3075120"/>
                  <a:tab algn="l" pos="3236760"/>
                  <a:tab algn="l" pos="3400560"/>
                  <a:tab algn="l" pos="356220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  <a:tab algn="l" pos="670392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55640" y="1432080"/>
              <a:ext cx="319968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marL="309600" indent="-309600" algn="ctr">
                <a:lnSpc>
                  <a:spcPct val="100000"/>
                </a:lnSpc>
                <a:tabLst>
                  <a:tab algn="l" pos="0"/>
                  <a:tab algn="l" pos="309600"/>
                  <a:tab algn="l" pos="471600"/>
                  <a:tab algn="l" pos="633240"/>
                  <a:tab algn="l" pos="797040"/>
                  <a:tab algn="l" pos="958680"/>
                  <a:tab algn="l" pos="1122480"/>
                  <a:tab algn="l" pos="1284120"/>
                  <a:tab algn="l" pos="1447920"/>
                  <a:tab algn="l" pos="1609560"/>
                  <a:tab algn="l" pos="1773360"/>
                  <a:tab algn="l" pos="1935000"/>
                  <a:tab algn="l" pos="2098800"/>
                  <a:tab algn="l" pos="2260440"/>
                  <a:tab algn="l" pos="2424240"/>
                  <a:tab algn="l" pos="2585880"/>
                  <a:tab algn="l" pos="2749680"/>
                  <a:tab algn="l" pos="2911320"/>
                  <a:tab algn="l" pos="3075120"/>
                  <a:tab algn="l" pos="3236760"/>
                  <a:tab algn="l" pos="3400560"/>
                  <a:tab algn="l" pos="356220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  <a:tab algn="l" pos="670392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14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7200" y="1432080"/>
              <a:ext cx="20970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marL="309600" indent="-309600">
                <a:lnSpc>
                  <a:spcPct val="100000"/>
                </a:lnSpc>
                <a:tabLst>
                  <a:tab algn="l" pos="0"/>
                  <a:tab algn="l" pos="309600"/>
                  <a:tab algn="l" pos="471600"/>
                  <a:tab algn="l" pos="633240"/>
                  <a:tab algn="l" pos="797040"/>
                  <a:tab algn="l" pos="958680"/>
                  <a:tab algn="l" pos="1122480"/>
                  <a:tab algn="l" pos="1284120"/>
                  <a:tab algn="l" pos="1447920"/>
                  <a:tab algn="l" pos="1609560"/>
                  <a:tab algn="l" pos="1773360"/>
                  <a:tab algn="l" pos="1935000"/>
                  <a:tab algn="l" pos="2098800"/>
                  <a:tab algn="l" pos="2260440"/>
                  <a:tab algn="l" pos="2424240"/>
                  <a:tab algn="l" pos="2585880"/>
                  <a:tab algn="l" pos="2749680"/>
                  <a:tab algn="l" pos="2911320"/>
                  <a:tab algn="l" pos="3075120"/>
                  <a:tab algn="l" pos="3236760"/>
                  <a:tab algn="l" pos="3400560"/>
                  <a:tab algn="l" pos="356220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  <a:tab algn="l" pos="670392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Number of day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755680" y="1052640"/>
              <a:ext cx="17661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marL="309600" indent="-309600" algn="ctr">
                <a:lnSpc>
                  <a:spcPct val="100000"/>
                </a:lnSpc>
                <a:tabLst>
                  <a:tab algn="l" pos="0"/>
                  <a:tab algn="l" pos="309600"/>
                  <a:tab algn="l" pos="471600"/>
                  <a:tab algn="l" pos="633240"/>
                  <a:tab algn="l" pos="797040"/>
                  <a:tab algn="l" pos="958680"/>
                  <a:tab algn="l" pos="1122480"/>
                  <a:tab algn="l" pos="1284120"/>
                  <a:tab algn="l" pos="1447920"/>
                  <a:tab algn="l" pos="1609560"/>
                  <a:tab algn="l" pos="1773360"/>
                  <a:tab algn="l" pos="1935000"/>
                  <a:tab algn="l" pos="2098800"/>
                  <a:tab algn="l" pos="2260440"/>
                  <a:tab algn="l" pos="2424240"/>
                  <a:tab algn="l" pos="2585880"/>
                  <a:tab algn="l" pos="2749680"/>
                  <a:tab algn="l" pos="2911320"/>
                  <a:tab algn="l" pos="3075120"/>
                  <a:tab algn="l" pos="3236760"/>
                  <a:tab algn="l" pos="3400560"/>
                  <a:tab algn="l" pos="356220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  <a:tab algn="l" pos="670392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Nominal CNG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55640" y="1052640"/>
              <a:ext cx="319968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marL="309600" indent="-309600" algn="ctr">
                <a:lnSpc>
                  <a:spcPct val="100000"/>
                </a:lnSpc>
                <a:tabLst>
                  <a:tab algn="l" pos="0"/>
                  <a:tab algn="l" pos="309600"/>
                  <a:tab algn="l" pos="471600"/>
                  <a:tab algn="l" pos="633240"/>
                  <a:tab algn="l" pos="797040"/>
                  <a:tab algn="l" pos="958680"/>
                  <a:tab algn="l" pos="1122480"/>
                  <a:tab algn="l" pos="1284120"/>
                  <a:tab algn="l" pos="1447920"/>
                  <a:tab algn="l" pos="1609560"/>
                  <a:tab algn="l" pos="1773360"/>
                  <a:tab algn="l" pos="1935000"/>
                  <a:tab algn="l" pos="2098800"/>
                  <a:tab algn="l" pos="2260440"/>
                  <a:tab algn="l" pos="2424240"/>
                  <a:tab algn="l" pos="2585880"/>
                  <a:tab algn="l" pos="2749680"/>
                  <a:tab algn="l" pos="2911320"/>
                  <a:tab algn="l" pos="3075120"/>
                  <a:tab algn="l" pos="3236760"/>
                  <a:tab algn="l" pos="3400560"/>
                  <a:tab algn="l" pos="356220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  <a:tab algn="l" pos="670392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Expected 2008 ru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7200" y="1052640"/>
              <a:ext cx="20970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7200" y="1052640"/>
              <a:ext cx="7064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7200" y="3165120"/>
              <a:ext cx="7064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7200" y="1052640"/>
              <a:ext cx="1080" cy="21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21840" y="1052640"/>
              <a:ext cx="1080" cy="21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7200" y="1432080"/>
              <a:ext cx="7064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555640" y="1052640"/>
              <a:ext cx="1440" cy="21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55680" y="1052640"/>
              <a:ext cx="1080" cy="21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7200" y="1777320"/>
              <a:ext cx="7064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7200" y="2126880"/>
              <a:ext cx="7064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7200" y="2472120"/>
              <a:ext cx="7064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89160" y="2126880"/>
              <a:ext cx="1440" cy="103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7200" y="2819880"/>
              <a:ext cx="7064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95280" y="3998880"/>
            <a:ext cx="5319360" cy="2247480"/>
            <a:chOff x="395280" y="3998880"/>
            <a:chExt cx="5319360" cy="2247480"/>
          </a:xfrm>
        </p:grpSpPr>
        <p:sp>
          <p:nvSpPr>
            <p:cNvPr id="445" name=""/>
            <p:cNvSpPr/>
            <p:nvPr/>
          </p:nvSpPr>
          <p:spPr>
            <a:xfrm>
              <a:off x="4003200" y="5874120"/>
              <a:ext cx="1708920" cy="3711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62000"/>
                  <a:tab algn="l" pos="324000"/>
                  <a:tab algn="l" pos="487440"/>
                  <a:tab algn="l" pos="649440"/>
                  <a:tab algn="l" pos="812880"/>
                  <a:tab algn="l" pos="974880"/>
                  <a:tab algn="l" pos="1138320"/>
                  <a:tab algn="l" pos="1300320"/>
                  <a:tab algn="l" pos="1463760"/>
                  <a:tab algn="l" pos="1625760"/>
                  <a:tab algn="l" pos="1789200"/>
                  <a:tab algn="l" pos="1951200"/>
                  <a:tab algn="l" pos="2114640"/>
                  <a:tab algn="l" pos="2276640"/>
                  <a:tab algn="l" pos="2440080"/>
                  <a:tab algn="l" pos="2602080"/>
                  <a:tab algn="l" pos="2765520"/>
                  <a:tab algn="l" pos="2927520"/>
                  <a:tab algn="l" pos="3090960"/>
                  <a:tab algn="l" pos="3252960"/>
                  <a:tab algn="l" pos="3270240"/>
                  <a:tab algn="l" pos="343368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</a:rPr>
                <a:t>1.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5280" y="5874120"/>
              <a:ext cx="3607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2000"/>
                  <a:tab algn="l" pos="324000"/>
                  <a:tab algn="l" pos="487440"/>
                  <a:tab algn="l" pos="649440"/>
                  <a:tab algn="l" pos="812880"/>
                  <a:tab algn="l" pos="974880"/>
                  <a:tab algn="l" pos="1138320"/>
                  <a:tab algn="l" pos="1300320"/>
                  <a:tab algn="l" pos="1463760"/>
                  <a:tab algn="l" pos="1625760"/>
                  <a:tab algn="l" pos="1789200"/>
                  <a:tab algn="l" pos="1951200"/>
                  <a:tab algn="l" pos="2114640"/>
                  <a:tab algn="l" pos="2276640"/>
                  <a:tab algn="l" pos="2440080"/>
                  <a:tab algn="l" pos="2602080"/>
                  <a:tab algn="l" pos="2765520"/>
                  <a:tab algn="l" pos="2927520"/>
                  <a:tab algn="l" pos="3090960"/>
                  <a:tab algn="l" pos="3252960"/>
                  <a:tab algn="l" pos="3282840"/>
                  <a:tab algn="l" pos="343368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Tau candidate (@2.5 10</a:t>
              </a:r>
              <a:r>
                <a:rPr b="1" lang="en-GB" sz="1500" spc="-1" strike="noStrike" baseline="30000">
                  <a:solidFill>
                    <a:srgbClr val="000000"/>
                  </a:solidFill>
                  <a:latin typeface="Comic Sans MS"/>
                  <a:ea typeface="ＭＳ 明朝"/>
                </a:rPr>
                <a:t>-3</a:t>
              </a: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 eV</a:t>
              </a:r>
              <a:r>
                <a:rPr b="1" lang="en-GB" sz="1500" spc="-1" strike="noStrike" baseline="30000">
                  <a:solidFill>
                    <a:srgbClr val="000000"/>
                  </a:solidFill>
                  <a:latin typeface="Comic Sans MS"/>
                  <a:ea typeface="ＭＳ 明朝"/>
                </a:rPr>
                <a:t>2</a:t>
              </a: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)</a:t>
              </a: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03200" y="5485680"/>
              <a:ext cx="1708920" cy="388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r">
                <a:lnSpc>
                  <a:spcPct val="100000"/>
                </a:lnSpc>
                <a:spcBef>
                  <a:spcPts val="363"/>
                </a:spcBef>
                <a:tabLst>
                  <a:tab algn="l" pos="0"/>
                  <a:tab algn="l" pos="162000"/>
                  <a:tab algn="l" pos="324000"/>
                  <a:tab algn="l" pos="487440"/>
                  <a:tab algn="l" pos="649440"/>
                  <a:tab algn="l" pos="812880"/>
                  <a:tab algn="l" pos="974880"/>
                  <a:tab algn="l" pos="1138320"/>
                  <a:tab algn="l" pos="1300320"/>
                  <a:tab algn="l" pos="1463760"/>
                  <a:tab algn="l" pos="1625760"/>
                  <a:tab algn="l" pos="1789200"/>
                  <a:tab algn="l" pos="1951200"/>
                  <a:tab algn="l" pos="2114640"/>
                  <a:tab algn="l" pos="2276640"/>
                  <a:tab algn="l" pos="2440080"/>
                  <a:tab algn="l" pos="2602080"/>
                  <a:tab algn="l" pos="2765520"/>
                  <a:tab algn="l" pos="2927520"/>
                  <a:tab algn="l" pos="3090960"/>
                  <a:tab algn="l" pos="3252960"/>
                  <a:tab algn="l" pos="3270240"/>
                  <a:tab algn="l" pos="343368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</a:rPr>
                <a:t>8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5280" y="5485680"/>
              <a:ext cx="360792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2000"/>
                  <a:tab algn="l" pos="324000"/>
                  <a:tab algn="l" pos="487440"/>
                  <a:tab algn="l" pos="649440"/>
                  <a:tab algn="l" pos="812880"/>
                  <a:tab algn="l" pos="974880"/>
                  <a:tab algn="l" pos="1138320"/>
                  <a:tab algn="l" pos="1300320"/>
                  <a:tab algn="l" pos="1463760"/>
                  <a:tab algn="l" pos="1625760"/>
                  <a:tab algn="l" pos="1789200"/>
                  <a:tab algn="l" pos="1951200"/>
                  <a:tab algn="l" pos="2114640"/>
                  <a:tab algn="l" pos="2276640"/>
                  <a:tab algn="l" pos="2440080"/>
                  <a:tab algn="l" pos="2602080"/>
                  <a:tab algn="l" pos="2765520"/>
                  <a:tab algn="l" pos="2927520"/>
                  <a:tab algn="l" pos="3090960"/>
                  <a:tab algn="l" pos="3252960"/>
                  <a:tab algn="l" pos="3282840"/>
                  <a:tab algn="l" pos="343368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Charm deca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03200" y="5114880"/>
              <a:ext cx="1708920" cy="3708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62000"/>
                  <a:tab algn="l" pos="324000"/>
                  <a:tab algn="l" pos="487440"/>
                  <a:tab algn="l" pos="649440"/>
                  <a:tab algn="l" pos="812880"/>
                  <a:tab algn="l" pos="974880"/>
                  <a:tab algn="l" pos="1138320"/>
                  <a:tab algn="l" pos="1300320"/>
                  <a:tab algn="l" pos="1463760"/>
                  <a:tab algn="l" pos="1625760"/>
                  <a:tab algn="l" pos="1789200"/>
                  <a:tab algn="l" pos="1951200"/>
                  <a:tab algn="l" pos="2114640"/>
                  <a:tab algn="l" pos="2276640"/>
                  <a:tab algn="l" pos="2440080"/>
                  <a:tab algn="l" pos="2602080"/>
                  <a:tab algn="l" pos="2765520"/>
                  <a:tab algn="l" pos="2927520"/>
                  <a:tab algn="l" pos="3090960"/>
                  <a:tab algn="l" pos="3252960"/>
                  <a:tab algn="l" pos="3270240"/>
                  <a:tab algn="l" pos="343368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5280" y="5114880"/>
              <a:ext cx="3607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2000"/>
                  <a:tab algn="l" pos="324000"/>
                  <a:tab algn="l" pos="487440"/>
                  <a:tab algn="l" pos="649440"/>
                  <a:tab algn="l" pos="812880"/>
                  <a:tab algn="l" pos="974880"/>
                  <a:tab algn="l" pos="1138320"/>
                  <a:tab algn="l" pos="1300320"/>
                  <a:tab algn="l" pos="1463760"/>
                  <a:tab algn="l" pos="1625760"/>
                  <a:tab algn="l" pos="1789200"/>
                  <a:tab algn="l" pos="1951200"/>
                  <a:tab algn="l" pos="2114640"/>
                  <a:tab algn="l" pos="2276640"/>
                  <a:tab algn="l" pos="2440080"/>
                  <a:tab algn="l" pos="2602080"/>
                  <a:tab algn="l" pos="2765520"/>
                  <a:tab algn="l" pos="2927520"/>
                  <a:tab algn="l" pos="3090960"/>
                  <a:tab algn="l" pos="3252960"/>
                  <a:tab algn="l" pos="3282840"/>
                  <a:tab algn="l" pos="343368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Electron even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03200" y="4742280"/>
              <a:ext cx="1708920" cy="3722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62000"/>
                  <a:tab algn="l" pos="324000"/>
                  <a:tab algn="l" pos="487440"/>
                  <a:tab algn="l" pos="649440"/>
                  <a:tab algn="l" pos="812880"/>
                  <a:tab algn="l" pos="974880"/>
                  <a:tab algn="l" pos="1138320"/>
                  <a:tab algn="l" pos="1300320"/>
                  <a:tab algn="l" pos="1463760"/>
                  <a:tab algn="l" pos="1625760"/>
                  <a:tab algn="l" pos="1789200"/>
                  <a:tab algn="l" pos="1951200"/>
                  <a:tab algn="l" pos="2114640"/>
                  <a:tab algn="l" pos="2276640"/>
                  <a:tab algn="l" pos="2440080"/>
                  <a:tab algn="l" pos="2602080"/>
                  <a:tab algn="l" pos="2765520"/>
                  <a:tab algn="l" pos="2927520"/>
                  <a:tab algn="l" pos="3090960"/>
                  <a:tab algn="l" pos="3252960"/>
                  <a:tab algn="l" pos="3270240"/>
                  <a:tab algn="l" pos="343368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</a:rPr>
                <a:t>45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95280" y="4742280"/>
              <a:ext cx="3607920" cy="3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2000"/>
                  <a:tab algn="l" pos="324000"/>
                  <a:tab algn="l" pos="487440"/>
                  <a:tab algn="l" pos="649440"/>
                  <a:tab algn="l" pos="812880"/>
                  <a:tab algn="l" pos="974880"/>
                  <a:tab algn="l" pos="1138320"/>
                  <a:tab algn="l" pos="1300320"/>
                  <a:tab algn="l" pos="1463760"/>
                  <a:tab algn="l" pos="1625760"/>
                  <a:tab algn="l" pos="1789200"/>
                  <a:tab algn="l" pos="1951200"/>
                  <a:tab algn="l" pos="2114640"/>
                  <a:tab algn="l" pos="2276640"/>
                  <a:tab algn="l" pos="2440080"/>
                  <a:tab algn="l" pos="2602080"/>
                  <a:tab algn="l" pos="2765520"/>
                  <a:tab algn="l" pos="2927520"/>
                  <a:tab algn="l" pos="3090960"/>
                  <a:tab algn="l" pos="3252960"/>
                  <a:tab algn="l" pos="3282840"/>
                  <a:tab algn="l" pos="343368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NC even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03200" y="4371120"/>
              <a:ext cx="1708920" cy="3711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62000"/>
                  <a:tab algn="l" pos="324000"/>
                  <a:tab algn="l" pos="487440"/>
                  <a:tab algn="l" pos="649440"/>
                  <a:tab algn="l" pos="812880"/>
                  <a:tab algn="l" pos="974880"/>
                  <a:tab algn="l" pos="1138320"/>
                  <a:tab algn="l" pos="1300320"/>
                  <a:tab algn="l" pos="1463760"/>
                  <a:tab algn="l" pos="1625760"/>
                  <a:tab algn="l" pos="1789200"/>
                  <a:tab algn="l" pos="1951200"/>
                  <a:tab algn="l" pos="2114640"/>
                  <a:tab algn="l" pos="2276640"/>
                  <a:tab algn="l" pos="2440080"/>
                  <a:tab algn="l" pos="2602080"/>
                  <a:tab algn="l" pos="2765520"/>
                  <a:tab algn="l" pos="2927520"/>
                  <a:tab algn="l" pos="3090960"/>
                  <a:tab algn="l" pos="3252960"/>
                  <a:tab algn="l" pos="3270240"/>
                  <a:tab algn="l" pos="343368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</a:rPr>
                <a:t>207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95280" y="4371120"/>
              <a:ext cx="3607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2000"/>
                  <a:tab algn="l" pos="324000"/>
                  <a:tab algn="l" pos="487440"/>
                  <a:tab algn="l" pos="649440"/>
                  <a:tab algn="l" pos="812880"/>
                  <a:tab algn="l" pos="974880"/>
                  <a:tab algn="l" pos="1138320"/>
                  <a:tab algn="l" pos="1300320"/>
                  <a:tab algn="l" pos="1463760"/>
                  <a:tab algn="l" pos="1625760"/>
                  <a:tab algn="l" pos="1789200"/>
                  <a:tab algn="l" pos="1951200"/>
                  <a:tab algn="l" pos="2114640"/>
                  <a:tab algn="l" pos="2276640"/>
                  <a:tab algn="l" pos="2440080"/>
                  <a:tab algn="l" pos="2602080"/>
                  <a:tab algn="l" pos="2765520"/>
                  <a:tab algn="l" pos="2927520"/>
                  <a:tab algn="l" pos="3090960"/>
                  <a:tab algn="l" pos="3252960"/>
                  <a:tab algn="l" pos="3282840"/>
                  <a:tab algn="l" pos="343368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CC even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03200" y="3998880"/>
              <a:ext cx="1708920" cy="3722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62000"/>
                  <a:tab algn="l" pos="324000"/>
                  <a:tab algn="l" pos="487440"/>
                  <a:tab algn="l" pos="649440"/>
                  <a:tab algn="l" pos="812880"/>
                  <a:tab algn="l" pos="974880"/>
                  <a:tab algn="l" pos="1138320"/>
                  <a:tab algn="l" pos="1300320"/>
                  <a:tab algn="l" pos="1463760"/>
                  <a:tab algn="l" pos="1625760"/>
                  <a:tab algn="l" pos="1789200"/>
                  <a:tab algn="l" pos="1951200"/>
                  <a:tab algn="l" pos="2114640"/>
                  <a:tab algn="l" pos="2276640"/>
                  <a:tab algn="l" pos="2440080"/>
                  <a:tab algn="l" pos="2602080"/>
                  <a:tab algn="l" pos="2765520"/>
                  <a:tab algn="l" pos="2927520"/>
                  <a:tab algn="l" pos="3090960"/>
                  <a:tab algn="l" pos="3252960"/>
                  <a:tab algn="l" pos="3270240"/>
                  <a:tab algn="l" pos="343368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</a:rPr>
                <a:t>277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5280" y="3998880"/>
              <a:ext cx="3607920" cy="3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2000"/>
                  <a:tab algn="l" pos="324000"/>
                  <a:tab algn="l" pos="487440"/>
                  <a:tab algn="l" pos="649440"/>
                  <a:tab algn="l" pos="812880"/>
                  <a:tab algn="l" pos="974880"/>
                  <a:tab algn="l" pos="1138320"/>
                  <a:tab algn="l" pos="1300320"/>
                  <a:tab algn="l" pos="1463760"/>
                  <a:tab algn="l" pos="1625760"/>
                  <a:tab algn="l" pos="1789200"/>
                  <a:tab algn="l" pos="1951200"/>
                  <a:tab algn="l" pos="2114640"/>
                  <a:tab algn="l" pos="2276640"/>
                  <a:tab algn="l" pos="2440080"/>
                  <a:tab algn="l" pos="2602080"/>
                  <a:tab algn="l" pos="2765520"/>
                  <a:tab algn="l" pos="2927520"/>
                  <a:tab algn="l" pos="3090960"/>
                  <a:tab algn="l" pos="3252960"/>
                  <a:tab algn="l" pos="3282840"/>
                  <a:tab algn="l" pos="3433680"/>
                  <a:tab algn="l" pos="3597120"/>
                  <a:tab algn="l" pos="3760920"/>
                  <a:tab algn="l" pos="3924360"/>
                  <a:tab algn="l" pos="4087800"/>
                  <a:tab algn="l" pos="4251240"/>
                  <a:tab algn="l" pos="4414680"/>
                  <a:tab algn="l" pos="4578480"/>
                  <a:tab algn="l" pos="4741920"/>
                  <a:tab algn="l" pos="4905360"/>
                  <a:tab algn="l" pos="5068800"/>
                  <a:tab algn="l" pos="5232240"/>
                  <a:tab algn="l" pos="5396040"/>
                  <a:tab algn="l" pos="5559480"/>
                  <a:tab algn="l" pos="5722920"/>
                  <a:tab algn="l" pos="5886360"/>
                  <a:tab algn="l" pos="6049800"/>
                  <a:tab algn="l" pos="6213600"/>
                  <a:tab algn="l" pos="6377040"/>
                  <a:tab algn="l" pos="654048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mic Sans MS"/>
                  <a:ea typeface="ＭＳ 明朝"/>
                </a:rPr>
                <a:t>Total number of interaction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5280" y="3998880"/>
              <a:ext cx="5316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5280" y="6245280"/>
              <a:ext cx="5316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5280" y="3998880"/>
              <a:ext cx="1440" cy="22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713560" y="3998880"/>
              <a:ext cx="1080" cy="22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5280" y="4371120"/>
              <a:ext cx="5316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03200" y="3998880"/>
              <a:ext cx="1080" cy="22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5280" y="4742280"/>
              <a:ext cx="5316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5280" y="5114880"/>
              <a:ext cx="5316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5280" y="5485680"/>
              <a:ext cx="5316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5280" y="5874120"/>
              <a:ext cx="5316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4716360" y="3500280"/>
            <a:ext cx="48420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004600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97120" y="3429000"/>
            <a:ext cx="281592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2000"/>
                <a:tab algn="l" pos="324000"/>
                <a:tab algn="l" pos="487440"/>
                <a:tab algn="l" pos="649440"/>
                <a:tab algn="l" pos="812880"/>
                <a:tab algn="l" pos="974880"/>
                <a:tab algn="l" pos="1138320"/>
                <a:tab algn="l" pos="1300320"/>
                <a:tab algn="l" pos="1463760"/>
                <a:tab algn="l" pos="1625760"/>
                <a:tab algn="l" pos="1789200"/>
                <a:tab algn="l" pos="1951200"/>
                <a:tab algn="l" pos="2114640"/>
                <a:tab algn="l" pos="2276640"/>
                <a:tab algn="l" pos="2440080"/>
                <a:tab algn="l" pos="2602080"/>
                <a:tab algn="l" pos="2765520"/>
                <a:tab algn="l" pos="2927520"/>
                <a:tab algn="l" pos="3090960"/>
                <a:tab algn="l" pos="3252960"/>
                <a:tab algn="l" pos="3270240"/>
                <a:tab algn="l" pos="3433680"/>
                <a:tab algn="l" pos="3597120"/>
                <a:tab algn="l" pos="3760920"/>
                <a:tab algn="l" pos="3924360"/>
                <a:tab algn="l" pos="4087800"/>
                <a:tab algn="l" pos="4251240"/>
                <a:tab algn="l" pos="4414680"/>
                <a:tab algn="l" pos="4578480"/>
                <a:tab algn="l" pos="4741920"/>
                <a:tab algn="l" pos="4905360"/>
                <a:tab algn="l" pos="5068800"/>
                <a:tab algn="l" pos="5232240"/>
                <a:tab algn="l" pos="5396040"/>
                <a:tab algn="l" pos="5559480"/>
                <a:tab algn="l" pos="5722920"/>
                <a:tab algn="l" pos="5886360"/>
                <a:tab algn="l" pos="6049800"/>
                <a:tab algn="l" pos="6213600"/>
                <a:tab algn="l" pos="6377040"/>
              </a:tabLst>
            </a:pPr>
            <a:r>
              <a:rPr b="0" lang="en-GB" sz="1500" spc="-1" strike="noStrike">
                <a:solidFill>
                  <a:srgbClr val="008000"/>
                </a:solidFill>
                <a:latin typeface="Comic Sans MS"/>
              </a:rPr>
              <a:t>Minimal granted by CER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2000"/>
                <a:tab algn="l" pos="324000"/>
                <a:tab algn="l" pos="487440"/>
                <a:tab algn="l" pos="649440"/>
                <a:tab algn="l" pos="812880"/>
                <a:tab algn="l" pos="974880"/>
                <a:tab algn="l" pos="1138320"/>
                <a:tab algn="l" pos="1300320"/>
                <a:tab algn="l" pos="1463760"/>
                <a:tab algn="l" pos="1625760"/>
                <a:tab algn="l" pos="1789200"/>
                <a:tab algn="l" pos="1951200"/>
                <a:tab algn="l" pos="2114640"/>
                <a:tab algn="l" pos="2276640"/>
                <a:tab algn="l" pos="2440080"/>
                <a:tab algn="l" pos="2602080"/>
                <a:tab algn="l" pos="2765520"/>
                <a:tab algn="l" pos="2927520"/>
                <a:tab algn="l" pos="3090960"/>
                <a:tab algn="l" pos="3252960"/>
                <a:tab algn="l" pos="3270240"/>
                <a:tab algn="l" pos="3433680"/>
                <a:tab algn="l" pos="3597120"/>
                <a:tab algn="l" pos="3760920"/>
                <a:tab algn="l" pos="3924360"/>
                <a:tab algn="l" pos="4087800"/>
                <a:tab algn="l" pos="4251240"/>
                <a:tab algn="l" pos="4414680"/>
                <a:tab algn="l" pos="4578480"/>
                <a:tab algn="l" pos="4741920"/>
                <a:tab algn="l" pos="4905360"/>
                <a:tab algn="l" pos="5068800"/>
                <a:tab algn="l" pos="5232240"/>
                <a:tab algn="l" pos="5396040"/>
                <a:tab algn="l" pos="5559480"/>
                <a:tab algn="l" pos="5722920"/>
                <a:tab algn="l" pos="5886360"/>
                <a:tab algn="l" pos="6049800"/>
                <a:tab algn="l" pos="6213600"/>
                <a:tab algn="l" pos="6377040"/>
              </a:tabLst>
            </a:pPr>
            <a:r>
              <a:rPr b="0" lang="en-GB" sz="1500" spc="-1" strike="noStrike">
                <a:solidFill>
                  <a:srgbClr val="008000"/>
                </a:solidFill>
                <a:latin typeface="Comic Sans MS"/>
              </a:rPr>
              <a:t>If no delay in the CNGS repai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3346560" y="3213000"/>
            <a:ext cx="1371600" cy="432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54760" y="4869000"/>
            <a:ext cx="1928880" cy="35964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2000"/>
                <a:tab algn="l" pos="324000"/>
                <a:tab algn="l" pos="487440"/>
                <a:tab algn="l" pos="649440"/>
                <a:tab algn="l" pos="812880"/>
                <a:tab algn="l" pos="974880"/>
                <a:tab algn="l" pos="1138320"/>
                <a:tab algn="l" pos="1300320"/>
                <a:tab algn="l" pos="1463760"/>
                <a:tab algn="l" pos="1625760"/>
                <a:tab algn="l" pos="1789200"/>
                <a:tab algn="l" pos="1951200"/>
                <a:tab algn="l" pos="2114640"/>
                <a:tab algn="l" pos="2276640"/>
                <a:tab algn="l" pos="2440080"/>
                <a:tab algn="l" pos="2602080"/>
                <a:tab algn="l" pos="2765520"/>
                <a:tab algn="l" pos="2927520"/>
                <a:tab algn="l" pos="3090960"/>
                <a:tab algn="l" pos="3252960"/>
                <a:tab algn="l" pos="3270240"/>
                <a:tab algn="l" pos="3433680"/>
                <a:tab algn="l" pos="3597120"/>
                <a:tab algn="l" pos="3760920"/>
                <a:tab algn="l" pos="3924360"/>
                <a:tab algn="l" pos="4087800"/>
                <a:tab algn="l" pos="4251240"/>
                <a:tab algn="l" pos="4414680"/>
                <a:tab algn="l" pos="4578480"/>
                <a:tab algn="l" pos="4741920"/>
                <a:tab algn="l" pos="4905360"/>
                <a:tab algn="l" pos="5068800"/>
                <a:tab algn="l" pos="5232240"/>
                <a:tab algn="l" pos="5396040"/>
                <a:tab algn="l" pos="5559480"/>
                <a:tab algn="l" pos="5722920"/>
                <a:tab algn="l" pos="5886360"/>
                <a:tab algn="l" pos="6049800"/>
                <a:tab algn="l" pos="6213600"/>
                <a:tab algn="l" pos="637704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mic Sans MS"/>
              </a:rPr>
              <a:t>~120 evts/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796000" y="4292640"/>
            <a:ext cx="792000" cy="72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918040" y="583740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0 x eff (0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AA0E-E4DB-4779-8DE2-556F372DAAA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OPERA Experiment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ivation and Conceptu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2200" y="16812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628640"/>
            <a:ext cx="835344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ff"/>
                </a:solidFill>
                <a:latin typeface="Arial"/>
              </a:rPr>
              <a:t>・ </a:t>
            </a:r>
            <a:r>
              <a:rPr b="1" lang="en-GB" sz="1900" spc="-1" strike="noStrike">
                <a:solidFill>
                  <a:srgbClr val="0000ff"/>
                </a:solidFill>
                <a:latin typeface="Arial"/>
              </a:rPr>
              <a:t>OPERA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9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scillation </a:t>
            </a:r>
            <a:r>
              <a:rPr b="1" lang="en-GB" sz="19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roject with </a:t>
            </a:r>
            <a:r>
              <a:rPr b="1" lang="en-GB" sz="19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mulsion t</a:t>
            </a:r>
            <a:r>
              <a:rPr b="1" lang="en-GB" sz="19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cking </a:t>
            </a:r>
            <a:r>
              <a:rPr b="1" lang="en-GB" sz="19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pparatus)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is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 long baseline neutrino oscillation experi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goal of the experiment is to directly measure for the first tim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neutrino oscillation in an appearance mo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Using an almost pure ν</a:t>
            </a:r>
            <a:r>
              <a:rPr b="1" lang="en-GB" sz="1900" spc="-1" strike="noStrike" baseline="-25000">
                <a:solidFill>
                  <a:srgbClr val="000000"/>
                </a:solidFill>
                <a:latin typeface="Arial"/>
              </a:rPr>
              <a:t>μ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eam, the ν</a:t>
            </a:r>
            <a:r>
              <a:rPr b="1" lang="en-GB" sz="1900" spc="-1" strike="noStrike" baseline="-25000">
                <a:solidFill>
                  <a:srgbClr val="000000"/>
                </a:solidFill>
                <a:latin typeface="Arial"/>
              </a:rPr>
              <a:t>μ</a:t>
            </a:r>
            <a:r>
              <a:rPr b="1" lang="ja-JP" sz="19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1" lang="en-GB" sz="1900" spc="-1" strike="noStrike" baseline="-25000">
                <a:solidFill>
                  <a:srgbClr val="000000"/>
                </a:solidFill>
                <a:latin typeface="Arial"/>
              </a:rPr>
              <a:t>τ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transition is detected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y observing the τ lepton decay, induced after a  neutrino-lead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C intera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τ lepton decay is observed by means of Emulsion Cloud Chamb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detector is located on the CNGS (CERN to Gran Sasso) beam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ne at a distance from the neutrino source of 730 k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Times New Roman"/>
              </a:rPr>
              <a:t>OPERA sensitivity to </a:t>
            </a:r>
            <a:r>
              <a:rPr b="0" i="1" lang="en-US" sz="3600" spc="-1" strike="noStrike">
                <a:solidFill>
                  <a:srgbClr val="008000"/>
                </a:solidFill>
                <a:latin typeface="Symbol"/>
                <a:ea typeface="Symbol"/>
              </a:rPr>
              <a:t></a:t>
            </a:r>
            <a:r>
              <a:rPr b="0" i="1" lang="en-US" sz="3600" spc="-1" strike="noStrike" baseline="-25000">
                <a:solidFill>
                  <a:srgbClr val="008000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rcRect l="0" t="10034" r="8883" b="3763"/>
          <a:stretch/>
        </p:blipFill>
        <p:spPr>
          <a:xfrm>
            <a:off x="5105520" y="1219320"/>
            <a:ext cx="3805200" cy="31366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936720" y="685800"/>
            <a:ext cx="696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Simultaneous fit of  E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, missing p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Times New Roman"/>
              </a:rPr>
              <a:t>T</a:t>
            </a: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 and E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Times New Roman"/>
              </a:rPr>
              <a:t>vis</a:t>
            </a: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84600" y="1676520"/>
            <a:ext cx="4669920" cy="4723560"/>
            <a:chOff x="84600" y="1676520"/>
            <a:chExt cx="4669920" cy="4723560"/>
          </a:xfrm>
        </p:grpSpPr>
        <p:grpSp>
          <p:nvGrpSpPr>
            <p:cNvPr id="477" name=""/>
            <p:cNvGrpSpPr/>
            <p:nvPr/>
          </p:nvGrpSpPr>
          <p:grpSpPr>
            <a:xfrm>
              <a:off x="611280" y="1676520"/>
              <a:ext cx="4143240" cy="4723560"/>
              <a:chOff x="611280" y="1676520"/>
              <a:chExt cx="4143240" cy="4723560"/>
            </a:xfrm>
          </p:grpSpPr>
          <p:pic>
            <p:nvPicPr>
              <p:cNvPr id="478" name="" descr=""/>
              <p:cNvPicPr/>
              <p:nvPr/>
            </p:nvPicPr>
            <p:blipFill>
              <a:blip r:embed="rId2"/>
              <a:srcRect l="0" t="8780" r="7614" b="3763"/>
              <a:stretch/>
            </p:blipFill>
            <p:spPr>
              <a:xfrm>
                <a:off x="611280" y="1676520"/>
                <a:ext cx="4143240" cy="472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"/>
              <p:cNvSpPr/>
              <p:nvPr/>
            </p:nvSpPr>
            <p:spPr>
              <a:xfrm>
                <a:off x="3189240" y="2412360"/>
                <a:ext cx="1504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99"/>
                    </a:solidFill>
                    <a:latin typeface="Comic Sans MS"/>
                  </a:rPr>
                  <a:t>Preliminar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 flipV="1">
              <a:off x="3276720" y="3962160"/>
              <a:ext cx="0" cy="182088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1272960" y="3962160"/>
              <a:ext cx="200340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600" y="3783960"/>
              <a:ext cx="126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60093"/>
                  </a:solidFill>
                  <a:latin typeface="Tahoma"/>
                </a:rPr>
                <a:t>2.5x10</a:t>
              </a:r>
              <a:r>
                <a:rPr b="0" lang="en-US" sz="1600" spc="-1" strike="noStrike" baseline="30000">
                  <a:solidFill>
                    <a:srgbClr val="d60093"/>
                  </a:solidFill>
                  <a:latin typeface="Tahoma"/>
                </a:rPr>
                <a:t>-3</a:t>
              </a:r>
              <a:r>
                <a:rPr b="0" lang="en-US" sz="1600" spc="-1" strike="noStrike">
                  <a:solidFill>
                    <a:srgbClr val="d60093"/>
                  </a:solidFill>
                  <a:latin typeface="Tahoma"/>
                </a:rPr>
                <a:t> eV</a:t>
              </a:r>
              <a:r>
                <a:rPr b="0" lang="en-US" sz="1600" spc="-1" strike="noStrike" baseline="30000">
                  <a:solidFill>
                    <a:srgbClr val="d60093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898720" y="575748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60093"/>
                  </a:solidFill>
                  <a:latin typeface="Tahoma"/>
                </a:rPr>
                <a:t>0.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1294560" y="1355760"/>
            <a:ext cx="325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ff"/>
                </a:solidFill>
                <a:latin typeface="Times New Roman"/>
              </a:rPr>
              <a:t>10% syst.  in </a:t>
            </a:r>
            <a:r>
              <a:rPr b="0" lang="fr-FR" sz="2000" spc="-1" strike="noStrike">
                <a:solidFill>
                  <a:srgbClr val="6666ff"/>
                </a:solidFill>
                <a:latin typeface="Symbol"/>
                <a:ea typeface="Symbol"/>
              </a:rPr>
              <a:t></a:t>
            </a:r>
            <a:r>
              <a:rPr b="0" lang="fr-FR" sz="2000" spc="-1" strike="noStrike" baseline="-25000">
                <a:solidFill>
                  <a:srgbClr val="6666ff"/>
                </a:solidFill>
                <a:latin typeface="Times New Roman"/>
              </a:rPr>
              <a:t>e </a:t>
            </a:r>
            <a:r>
              <a:rPr b="0" lang="fr-FR" sz="2000" spc="-1" strike="noStrike">
                <a:solidFill>
                  <a:srgbClr val="6666ff"/>
                </a:solidFill>
                <a:latin typeface="Times New Roman"/>
              </a:rPr>
              <a:t>cont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5478480" y="5472000"/>
          <a:ext cx="3468600" cy="1538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78480" y="5472000"/>
                    <a:ext cx="346860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4800600" y="466416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Limits at 90% CL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ff99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=  2.5x10</a:t>
            </a:r>
            <a:r>
              <a:rPr b="0" lang="en-US" sz="2400" spc="-1" strike="noStrike" baseline="30000">
                <a:solidFill>
                  <a:srgbClr val="ff9900"/>
                </a:solidFill>
                <a:latin typeface="Times New Roman"/>
              </a:rPr>
              <a:t>-3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V</a:t>
            </a:r>
            <a:r>
              <a:rPr b="0" lang="en-US" sz="2400" spc="-1" strike="noStrike" baseline="30000">
                <a:solidFill>
                  <a:srgbClr val="ff9900"/>
                </a:solidFill>
                <a:latin typeface="Times New Roman"/>
              </a:rPr>
              <a:t>2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full mi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358164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Comic Sans MS"/>
              </a:rPr>
              <a:t>S</a:t>
            </a:r>
            <a:r>
              <a:rPr b="1" lang="ja-JP" sz="3200" spc="-1" strike="noStrike">
                <a:solidFill>
                  <a:srgbClr val="009999"/>
                </a:solidFill>
                <a:latin typeface="Comic Sans MS"/>
              </a:rPr>
              <a:t>in</a:t>
            </a:r>
            <a:r>
              <a:rPr b="1" lang="ja-JP" sz="3200" spc="-1" strike="noStrike" baseline="30000">
                <a:solidFill>
                  <a:srgbClr val="009999"/>
                </a:solidFill>
                <a:latin typeface="Comic Sans MS"/>
              </a:rPr>
              <a:t>2</a:t>
            </a:r>
            <a:r>
              <a:rPr b="1" lang="ja-JP" sz="3200" spc="-1" strike="noStrike">
                <a:solidFill>
                  <a:srgbClr val="009999"/>
                </a:solidFill>
                <a:latin typeface="Comic Sans MS"/>
              </a:rPr>
              <a:t>2</a:t>
            </a:r>
            <a:r>
              <a:rPr b="1" lang="ja-JP" sz="32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1" lang="ja-JP" sz="3200" spc="-1" strike="noStrike" baseline="-25000">
                <a:solidFill>
                  <a:srgbClr val="009999"/>
                </a:solidFill>
                <a:latin typeface="Comic Sans MS"/>
              </a:rPr>
              <a:t>13</a:t>
            </a:r>
            <a:r>
              <a:rPr b="1" lang="ja-JP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009999"/>
                </a:solidFill>
                <a:latin typeface="Comic Sans MS"/>
              </a:rPr>
              <a:t>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52280" y="1066680"/>
            <a:ext cx="5334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8000"/>
                </a:solidFill>
                <a:latin typeface="Comic Sans MS"/>
              </a:rPr>
              <a:t>Assum</a:t>
            </a:r>
            <a:r>
              <a:rPr b="0" lang="fr-FR" sz="2000" spc="-1" strike="noStrike">
                <a:solidFill>
                  <a:srgbClr val="008000"/>
                </a:solidFill>
                <a:latin typeface="Comic Sans MS"/>
              </a:rPr>
              <a:t>ing : </a:t>
            </a:r>
            <a:r>
              <a:rPr b="0" lang="ja-JP" sz="2000" spc="-1" strike="noStrike">
                <a:solidFill>
                  <a:srgbClr val="008000"/>
                </a:solidFill>
                <a:latin typeface="Symbol"/>
                <a:ea typeface="Symbol"/>
              </a:rPr>
              <a:t></a:t>
            </a:r>
            <a:r>
              <a:rPr b="0" lang="ja-JP" sz="2000" spc="-1" strike="noStrike" baseline="-25000">
                <a:solidFill>
                  <a:srgbClr val="008000"/>
                </a:solidFill>
                <a:latin typeface="Comic Sans MS"/>
              </a:rPr>
              <a:t>23</a:t>
            </a:r>
            <a:r>
              <a:rPr b="0" lang="ja-JP" sz="2000" spc="-1" strike="noStrike">
                <a:solidFill>
                  <a:srgbClr val="008000"/>
                </a:solidFill>
                <a:latin typeface="Comic Sans MS"/>
              </a:rPr>
              <a:t>=</a:t>
            </a:r>
            <a:r>
              <a:rPr b="0" lang="ja-JP" sz="2000" spc="-1" strike="noStrike">
                <a:solidFill>
                  <a:srgbClr val="008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>
                <a:solidFill>
                  <a:srgbClr val="008000"/>
                </a:solidFill>
                <a:latin typeface="Comic Sans MS"/>
              </a:rPr>
              <a:t>/4</a:t>
            </a:r>
            <a:r>
              <a:rPr b="0" lang="fr-FR" sz="2000" spc="-1" strike="noStrike">
                <a:solidFill>
                  <a:srgbClr val="008000"/>
                </a:solidFill>
                <a:latin typeface="Comic Sans MS"/>
              </a:rPr>
              <a:t>,  </a:t>
            </a:r>
            <a:r>
              <a:rPr b="0" lang="ja-JP" sz="20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0" lang="ja-JP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</a:t>
            </a:r>
            <a:r>
              <a:rPr b="0" lang="ja-JP" sz="2000" spc="-1" strike="noStrike" baseline="30000">
                <a:solidFill>
                  <a:srgbClr val="008000"/>
                </a:solidFill>
                <a:latin typeface="Comic Sans MS"/>
                <a:ea typeface="Times New Roman"/>
              </a:rPr>
              <a:t>2</a:t>
            </a:r>
            <a:r>
              <a:rPr b="0" lang="ja-JP" sz="2000" spc="-1" strike="noStrike" baseline="-25000">
                <a:solidFill>
                  <a:srgbClr val="008000"/>
                </a:solidFill>
                <a:latin typeface="Comic Sans MS"/>
                <a:ea typeface="Times New Roman"/>
              </a:rPr>
              <a:t>23</a:t>
            </a:r>
            <a:r>
              <a:rPr b="0" lang="ja-JP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= </a:t>
            </a:r>
            <a:r>
              <a:rPr b="0" lang="ja-JP" sz="2000" spc="-1" strike="noStrike">
                <a:solidFill>
                  <a:srgbClr val="008000"/>
                </a:solidFill>
                <a:latin typeface="Comic Sans MS"/>
              </a:rPr>
              <a:t>2.5 x 10</a:t>
            </a:r>
            <a:r>
              <a:rPr b="0" lang="ja-JP" sz="2000" spc="-1" strike="noStrike" baseline="30000">
                <a:solidFill>
                  <a:srgbClr val="008000"/>
                </a:solidFill>
                <a:latin typeface="Comic Sans MS"/>
              </a:rPr>
              <a:t>-3</a:t>
            </a:r>
            <a:r>
              <a:rPr b="0" lang="ja-JP" sz="2000" spc="-1" strike="noStrike">
                <a:solidFill>
                  <a:srgbClr val="008000"/>
                </a:solidFill>
                <a:latin typeface="Comic Sans MS"/>
              </a:rPr>
              <a:t> eV</a:t>
            </a:r>
            <a:r>
              <a:rPr b="0" lang="ja-JP" sz="20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228600" y="3632040"/>
          <a:ext cx="2362320" cy="2387520"/>
        </p:xfrm>
        <a:graphic>
          <a:graphicData uri="http://schemas.openxmlformats.org/drawingml/2006/table">
            <a:tbl>
              <a:tblPr/>
              <a:tblGrid>
                <a:gridCol w="1676520"/>
                <a:gridCol w="6858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CHOOZ lim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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ja-JP" sz="1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ja-JP" sz="1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ja-JP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 b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1" name=""/>
          <p:cNvGrpSpPr/>
          <p:nvPr/>
        </p:nvGrpSpPr>
        <p:grpSpPr>
          <a:xfrm>
            <a:off x="2395440" y="1989000"/>
            <a:ext cx="6852240" cy="4191120"/>
            <a:chOff x="2395440" y="1989000"/>
            <a:chExt cx="6852240" cy="4191120"/>
          </a:xfrm>
        </p:grpSpPr>
        <p:pic>
          <p:nvPicPr>
            <p:cNvPr id="492" name="" descr=""/>
            <p:cNvPicPr/>
            <p:nvPr/>
          </p:nvPicPr>
          <p:blipFill>
            <a:blip r:embed="rId1"/>
            <a:stretch/>
          </p:blipFill>
          <p:spPr>
            <a:xfrm>
              <a:off x="2755800" y="1989000"/>
              <a:ext cx="448488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7224480" y="5338800"/>
              <a:ext cx="126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ot(x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9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6200000">
              <a:off x="2126880" y="2776680"/>
              <a:ext cx="942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 Unicode MS"/>
                  <a:ea typeface="Arial Unicode MS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69040" y="228132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CHOO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63920" y="2438280"/>
              <a:ext cx="358632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15600" y="3429000"/>
              <a:ext cx="178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5 years nomi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81520" y="3733920"/>
              <a:ext cx="152640" cy="761760"/>
            </a:xfrm>
            <a:prstGeom prst="downArrow">
              <a:avLst>
                <a:gd name="adj1" fmla="val 50000"/>
                <a:gd name="adj2" fmla="val 1247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64560" y="4648320"/>
              <a:ext cx="138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systemat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05760" y="4800600"/>
              <a:ext cx="671400" cy="152280"/>
            </a:xfrm>
            <a:prstGeom prst="leftArrow">
              <a:avLst>
                <a:gd name="adj1" fmla="val 50000"/>
                <a:gd name="adj2" fmla="val 11022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580920" y="4572000"/>
              <a:ext cx="2133720" cy="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368280" y="2362320"/>
            <a:ext cx="200952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00"/>
                </a:solidFill>
                <a:latin typeface="Comic Sans MS"/>
              </a:rPr>
              <a:t>Nb of ev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00"/>
                </a:solidFill>
                <a:latin typeface="Comic Sans MS"/>
              </a:rPr>
              <a:t>( 5 years running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048120"/>
            <a:ext cx="76320" cy="442800"/>
          </a:xfrm>
          <a:prstGeom prst="downArrow">
            <a:avLst>
              <a:gd name="adj1" fmla="val 50000"/>
              <a:gd name="adj2" fmla="val 145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8080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0000">
                <a:solidFill>
                  <a:srgbClr val="008080"/>
                </a:solidFill>
                <a:latin typeface="Symbol"/>
                <a:ea typeface="Symbol"/>
              </a:rPr>
              <a:t></a:t>
            </a:r>
            <a:r>
              <a:rPr b="0" lang="en-GB" sz="4000" spc="-1" strike="noStrike">
                <a:solidFill>
                  <a:srgbClr val="008080"/>
                </a:solidFill>
                <a:latin typeface="Symbol"/>
                <a:ea typeface="Symbol"/>
              </a:rPr>
              <a:t></a:t>
            </a:r>
            <a:r>
              <a:rPr b="0" lang="en-GB" sz="4000" spc="-1" strike="noStrike" baseline="-20000">
                <a:solidFill>
                  <a:srgbClr val="008080"/>
                </a:solidFill>
                <a:latin typeface="Symbol"/>
                <a:ea typeface="Symbol"/>
              </a:rPr>
              <a:t></a:t>
            </a:r>
            <a:r>
              <a:rPr b="0" lang="en-GB" sz="4000" spc="-1" strike="noStrike" baseline="-20000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fr-FR" sz="40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i="1" lang="en-AU" sz="4000" spc="-1" strike="noStrike">
                <a:solidFill>
                  <a:srgbClr val="008080"/>
                </a:solidFill>
                <a:latin typeface="Times New Roman"/>
              </a:rPr>
              <a:t>sensi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285840" y="1066680"/>
          <a:ext cx="8605800" cy="1473480"/>
        </p:xfrm>
        <a:graphic>
          <a:graphicData uri="http://schemas.openxmlformats.org/drawingml/2006/table">
            <a:tbl>
              <a:tblPr/>
              <a:tblGrid>
                <a:gridCol w="1752480"/>
                <a:gridCol w="1971720"/>
                <a:gridCol w="1963800"/>
                <a:gridCol w="1936800"/>
                <a:gridCol w="981000"/>
              </a:tblGrid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ig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1400" spc="-1" strike="noStrike" baseline="30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=1.9x10</a:t>
                      </a:r>
                      <a:r>
                        <a:rPr b="1" lang="en-US" sz="1400" spc="-1" strike="noStrike" baseline="30000">
                          <a:solidFill>
                            <a:srgbClr val="0000cc"/>
                          </a:solidFill>
                          <a:latin typeface="Arial"/>
                        </a:rPr>
                        <a:t>-3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eV</a:t>
                      </a:r>
                      <a:r>
                        <a:rPr b="1" lang="en-US" sz="1400" spc="-1" strike="noStrike" baseline="30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ig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1400" spc="-1" strike="noStrike" baseline="30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=2.4 x10</a:t>
                      </a:r>
                      <a:r>
                        <a:rPr b="1" lang="en-US" sz="1400" spc="-1" strike="noStrike" baseline="30000">
                          <a:solidFill>
                            <a:srgbClr val="0000cc"/>
                          </a:solidFill>
                          <a:latin typeface="Arial"/>
                        </a:rPr>
                        <a:t>-3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eV</a:t>
                      </a:r>
                      <a:r>
                        <a:rPr b="1" lang="en-US" sz="1400" spc="-1" strike="noStrike" baseline="30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ig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1400" spc="-1" strike="noStrike" baseline="30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=3.0x10</a:t>
                      </a:r>
                      <a:r>
                        <a:rPr b="1" lang="en-US" sz="1400" spc="-1" strike="noStrike" baseline="30000">
                          <a:solidFill>
                            <a:srgbClr val="0000cc"/>
                          </a:solidFill>
                          <a:latin typeface="Arial"/>
                        </a:rPr>
                        <a:t>-3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eV</a:t>
                      </a:r>
                      <a:r>
                        <a:rPr b="1" lang="en-US" sz="1400" spc="-1" strike="noStrike" baseline="30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BKG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OPERA 1.8 k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+ brick fi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+ 3 prong dec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8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"/>
          <p:cNvSpPr/>
          <p:nvPr/>
        </p:nvSpPr>
        <p:spPr>
          <a:xfrm>
            <a:off x="1877040" y="609480"/>
            <a:ext cx="58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66"/>
                </a:solidFill>
                <a:latin typeface="Times New Roman"/>
              </a:rPr>
              <a:t>full mixing</a:t>
            </a: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0" lang="ja-JP" sz="2400" spc="-1" strike="noStrike">
                <a:solidFill>
                  <a:srgbClr val="ff0066"/>
                </a:solidFill>
                <a:latin typeface="Times New Roman"/>
              </a:rPr>
              <a:t>5 years run @ </a:t>
            </a:r>
            <a:r>
              <a:rPr b="0" lang="fr-FR" sz="2400" spc="-1" strike="noStrike">
                <a:solidFill>
                  <a:srgbClr val="ff0066"/>
                </a:solidFill>
                <a:latin typeface="Times New Roman"/>
              </a:rPr>
              <a:t>4.5 </a:t>
            </a:r>
            <a:r>
              <a:rPr b="0" lang="ja-JP" sz="2400" spc="-1" strike="noStrike">
                <a:solidFill>
                  <a:srgbClr val="ff0066"/>
                </a:solidFill>
                <a:latin typeface="Times New Roman"/>
              </a:rPr>
              <a:t>x10</a:t>
            </a:r>
            <a:r>
              <a:rPr b="0" lang="ja-JP" sz="2400" spc="-1" strike="noStrike" baseline="30000">
                <a:solidFill>
                  <a:srgbClr val="ff0066"/>
                </a:solidFill>
                <a:latin typeface="Times New Roman"/>
              </a:rPr>
              <a:t>19</a:t>
            </a:r>
            <a:r>
              <a:rPr b="0" lang="ja-JP" sz="2400" spc="-1" strike="noStrike">
                <a:solidFill>
                  <a:srgbClr val="ff0066"/>
                </a:solidFill>
                <a:latin typeface="Times New Roman"/>
              </a:rPr>
              <a:t> pot /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93840" y="2666880"/>
            <a:ext cx="7962840" cy="4263840"/>
            <a:chOff x="393840" y="2666880"/>
            <a:chExt cx="7962840" cy="4263840"/>
          </a:xfrm>
        </p:grpSpPr>
        <p:pic>
          <p:nvPicPr>
            <p:cNvPr id="508" name="" descr=""/>
            <p:cNvPicPr/>
            <p:nvPr/>
          </p:nvPicPr>
          <p:blipFill>
            <a:blip r:embed="rId1">
              <a:lum contrast="18000"/>
            </a:blip>
            <a:srcRect l="0" t="2077" r="0" b="0"/>
            <a:stretch/>
          </p:blipFill>
          <p:spPr>
            <a:xfrm>
              <a:off x="2336760" y="2666880"/>
              <a:ext cx="5140440" cy="38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940280" y="2703960"/>
              <a:ext cx="0" cy="343764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566040" y="2722680"/>
              <a:ext cx="0" cy="34488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1928880" y="3328560"/>
              <a:ext cx="2928960" cy="66924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21240" y="3528360"/>
              <a:ext cx="2173320" cy="83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289640" y="4403160"/>
              <a:ext cx="106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era nom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93840" y="2786760"/>
              <a:ext cx="1752480" cy="17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Opera with expected background improv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-3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7960" y="47311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Opera, half backgroun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003400" y="4413240"/>
              <a:ext cx="2463840" cy="554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5320" y="6471000"/>
              <a:ext cx="346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SK 90% CL (L/E analysi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2935800" y="2529000"/>
            <a:ext cx="34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0066"/>
                </a:solidFill>
                <a:latin typeface="Times New Roman"/>
              </a:rPr>
              <a:t> discovery potent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m Cand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900000" y="333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Event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807183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rcRect l="0" t="0" r="0" b="20173"/>
          <a:stretch/>
        </p:blipFill>
        <p:spPr>
          <a:xfrm>
            <a:off x="843120" y="981000"/>
            <a:ext cx="7457760" cy="484344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2987640" y="60930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t classified as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rcRect l="0" t="0" r="0" b="20173"/>
          <a:stretch/>
        </p:blipFill>
        <p:spPr>
          <a:xfrm>
            <a:off x="843120" y="1393920"/>
            <a:ext cx="7457760" cy="484344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900000" y="3398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rick 34730 extra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rcRect l="17337" t="20455" r="18458" b="17763"/>
          <a:stretch/>
        </p:blipFill>
        <p:spPr>
          <a:xfrm>
            <a:off x="5797440" y="-27000"/>
            <a:ext cx="3311640" cy="267336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4920" y="2667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ry vertex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08000" y="1844640"/>
          <a:ext cx="6567480" cy="48924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768240"/>
                <a:gridCol w="1368360"/>
                <a:gridCol w="13827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mentum(Ge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0.5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0.7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0.8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1.6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1.4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0.2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0.3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3.6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p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3.1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p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"/>
          <p:cNvSpPr/>
          <p:nvPr/>
        </p:nvSpPr>
        <p:spPr>
          <a:xfrm>
            <a:off x="7020000" y="4797360"/>
            <a:ext cx="20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v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5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539640" y="1890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nual check in pl 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26920" y="112536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y nice view of 11 tracks crossing at sam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330200" y="3645000"/>
            <a:ext cx="1800360" cy="100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42920" y="3355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11280" y="4005360"/>
            <a:ext cx="71928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195640" y="3710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979640" y="2924280"/>
            <a:ext cx="115092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763640" y="2557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71640" y="3860640"/>
            <a:ext cx="35892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556000" y="3494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14560" y="3860640"/>
            <a:ext cx="21600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771640" y="3494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59280" y="3932280"/>
            <a:ext cx="7128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975040" y="3622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130200" y="2852640"/>
            <a:ext cx="360360" cy="18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74920" y="2492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3130560" y="3500280"/>
            <a:ext cx="43344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490920" y="3205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3134880" y="4005360"/>
            <a:ext cx="36036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9092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130560" y="4653000"/>
            <a:ext cx="5047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826560" y="4653000"/>
            <a:ext cx="230364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68360" y="53672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35280" y="4718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4716360" y="2060640"/>
          <a:ext cx="3240000" cy="4443480"/>
        </p:xfrm>
        <a:graphic>
          <a:graphicData uri="http://schemas.openxmlformats.org/drawingml/2006/table">
            <a:tbl>
              <a:tblPr/>
              <a:tblGrid>
                <a:gridCol w="726840"/>
                <a:gridCol w="978120"/>
                <a:gridCol w="833400"/>
                <a:gridCol w="701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"/>
          <p:cNvPicPr/>
          <p:nvPr/>
        </p:nvPicPr>
        <p:blipFill>
          <a:blip r:embed="rId1"/>
          <a:srcRect l="15771" t="0" r="0" b="0"/>
          <a:stretch/>
        </p:blipFill>
        <p:spPr>
          <a:xfrm>
            <a:off x="108000" y="449280"/>
            <a:ext cx="4147920" cy="413208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2"/>
          <a:srcRect l="15771" t="0" r="0" b="0"/>
          <a:stretch/>
        </p:blipFill>
        <p:spPr>
          <a:xfrm>
            <a:off x="4500720" y="476280"/>
            <a:ext cx="4192560" cy="417672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116000" y="4941720"/>
            <a:ext cx="72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 multiplicity 1ry vertex and 2ry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08000" y="5492880"/>
            <a:ext cx="51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ck from decay is a SB track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08000" y="6067440"/>
            <a:ext cx="92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S confirmation is a very good validation of the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348000" y="2997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rcRect l="17337" t="20455" r="18458" b="17763"/>
          <a:stretch/>
        </p:blipFill>
        <p:spPr>
          <a:xfrm>
            <a:off x="395280" y="179280"/>
            <a:ext cx="3311640" cy="267336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rcRect l="15771" t="15440" r="0" b="0"/>
          <a:stretch/>
        </p:blipFill>
        <p:spPr>
          <a:xfrm>
            <a:off x="5238720" y="-27000"/>
            <a:ext cx="3510000" cy="29574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4067280" y="1125360"/>
            <a:ext cx="865080" cy="574920"/>
          </a:xfrm>
          <a:prstGeom prst="rightArrow">
            <a:avLst>
              <a:gd name="adj1" fmla="val 50000"/>
              <a:gd name="adj2" fmla="val 376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68360" y="3736800"/>
            <a:ext cx="82818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A charm candidate is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Muon track is difficult to be reconstructed in the electronic detector, but strong indication there is combining emulsion-electronic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Further study will be done on charm daughter slopes, attempt to reduce error on momentum estimation (training for much more important dec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The full event look like good for particle physic books: kink, high multiplicity, electromagnetic sh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alphaModFix amt="26000"/>
          </a:blip>
          <a:srcRect l="2254" t="386" r="21264" b="274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92440" y="1336680"/>
            <a:ext cx="609480" cy="29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54960" y="4460760"/>
            <a:ext cx="304560" cy="228600"/>
          </a:xfrm>
          <a:custGeom>
            <a:avLst/>
            <a:gdLst/>
            <a:ahLst/>
            <a:rect l="l" t="t" r="r" b="b"/>
            <a:pathLst>
              <a:path w="501" h="468">
                <a:moveTo>
                  <a:pt x="75" y="432"/>
                </a:moveTo>
                <a:cubicBezTo>
                  <a:pt x="127" y="428"/>
                  <a:pt x="175" y="424"/>
                  <a:pt x="227" y="428"/>
                </a:cubicBezTo>
                <a:cubicBezTo>
                  <a:pt x="266" y="438"/>
                  <a:pt x="298" y="456"/>
                  <a:pt x="335" y="468"/>
                </a:cubicBezTo>
                <a:cubicBezTo>
                  <a:pt x="386" y="465"/>
                  <a:pt x="430" y="457"/>
                  <a:pt x="479" y="452"/>
                </a:cubicBezTo>
                <a:cubicBezTo>
                  <a:pt x="485" y="434"/>
                  <a:pt x="487" y="415"/>
                  <a:pt x="491" y="396"/>
                </a:cubicBezTo>
                <a:cubicBezTo>
                  <a:pt x="499" y="304"/>
                  <a:pt x="501" y="193"/>
                  <a:pt x="447" y="112"/>
                </a:cubicBezTo>
                <a:cubicBezTo>
                  <a:pt x="424" y="78"/>
                  <a:pt x="386" y="50"/>
                  <a:pt x="355" y="24"/>
                </a:cubicBezTo>
                <a:cubicBezTo>
                  <a:pt x="331" y="4"/>
                  <a:pt x="357" y="17"/>
                  <a:pt x="319" y="4"/>
                </a:cubicBezTo>
                <a:cubicBezTo>
                  <a:pt x="315" y="3"/>
                  <a:pt x="307" y="0"/>
                  <a:pt x="307" y="0"/>
                </a:cubicBezTo>
                <a:cubicBezTo>
                  <a:pt x="284" y="1"/>
                  <a:pt x="262" y="1"/>
                  <a:pt x="239" y="4"/>
                </a:cubicBezTo>
                <a:cubicBezTo>
                  <a:pt x="205" y="8"/>
                  <a:pt x="169" y="36"/>
                  <a:pt x="143" y="56"/>
                </a:cubicBezTo>
                <a:cubicBezTo>
                  <a:pt x="68" y="114"/>
                  <a:pt x="34" y="148"/>
                  <a:pt x="15" y="244"/>
                </a:cubicBezTo>
                <a:cubicBezTo>
                  <a:pt x="14" y="273"/>
                  <a:pt x="14" y="303"/>
                  <a:pt x="11" y="332"/>
                </a:cubicBezTo>
                <a:cubicBezTo>
                  <a:pt x="10" y="346"/>
                  <a:pt x="3" y="372"/>
                  <a:pt x="3" y="372"/>
                </a:cubicBezTo>
                <a:cubicBezTo>
                  <a:pt x="4" y="388"/>
                  <a:pt x="0" y="406"/>
                  <a:pt x="7" y="420"/>
                </a:cubicBezTo>
                <a:cubicBezTo>
                  <a:pt x="11" y="428"/>
                  <a:pt x="23" y="425"/>
                  <a:pt x="31" y="428"/>
                </a:cubicBezTo>
                <a:cubicBezTo>
                  <a:pt x="45" y="433"/>
                  <a:pt x="75" y="455"/>
                  <a:pt x="75" y="432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27280" y="4710240"/>
            <a:ext cx="30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INFN Gran Sasso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9640" y="1363680"/>
            <a:ext cx="135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CERN 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263800">
            <a:off x="3639960" y="2994120"/>
            <a:ext cx="1131480" cy="4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730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68760" y="1576440"/>
            <a:ext cx="3657600" cy="2743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612720" y="117360"/>
            <a:ext cx="640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NGS b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987640" y="4125960"/>
            <a:ext cx="2952720" cy="2732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95640" y="1027080"/>
            <a:ext cx="4897440" cy="139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beam is optimized for </a:t>
            </a: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the atmospheric oscillation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Δm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= (2.43±0.13)×10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θ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=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4400" y="2816280"/>
            <a:ext cx="3044880" cy="3098880"/>
            <a:chOff x="14400" y="2816280"/>
            <a:chExt cx="3044880" cy="3098880"/>
          </a:xfrm>
        </p:grpSpPr>
        <p:sp>
          <p:nvSpPr>
            <p:cNvPr id="69" name=""/>
            <p:cNvSpPr/>
            <p:nvPr/>
          </p:nvSpPr>
          <p:spPr>
            <a:xfrm>
              <a:off x="14400" y="2816280"/>
              <a:ext cx="3039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nventional </a:t>
              </a:r>
              <a:r>
                <a:rPr b="1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b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240" y="3203640"/>
              <a:ext cx="3029040" cy="271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3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( m</a:t>
              </a:r>
              <a:r>
                <a:rPr b="1" lang="ja-JP" sz="1500" spc="-1" strike="noStrike" baseline="30000">
                  <a:solidFill>
                    <a:srgbClr val="000000"/>
                  </a:solidFill>
                  <a:latin typeface="Arial"/>
                </a:rPr>
                <a:t>-2 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/ pot)               7.45x10</a:t>
              </a:r>
              <a:r>
                <a:rPr b="1" lang="ja-JP" sz="1500" spc="-1" strike="noStrike" baseline="30000">
                  <a:solidFill>
                    <a:srgbClr val="000000"/>
                  </a:solidFill>
                  <a:latin typeface="Arial"/>
                </a:rPr>
                <a:t>-9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ja-JP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CC / pot / kton       5.44x10</a:t>
              </a:r>
              <a:r>
                <a:rPr b="1" lang="ja-JP" sz="1500" spc="-1" strike="noStrike" baseline="30000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&lt; E &gt;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 ( GeV )                 </a:t>
              </a:r>
              <a:r>
                <a:rPr b="1" lang="ja-JP" sz="15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ja-JP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Arial"/>
                </a:rPr>
                <a:t>e + </a:t>
              </a:r>
              <a:r>
                <a:rPr b="1" lang="ja-JP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) /  </a:t>
              </a:r>
              <a:r>
                <a:rPr b="1" lang="ja-JP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                  0.85 %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ja-JP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ja-JP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                         2.0 %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ja-JP" sz="1500" spc="-1" strike="noStrike" baseline="-25000">
                  <a:solidFill>
                    <a:srgbClr val="000000"/>
                  </a:solidFill>
                  <a:latin typeface="Arial"/>
                </a:rPr>
                <a:t>t  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prompt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ja-JP" sz="1500" spc="-1" strike="noStrike">
                  <a:solidFill>
                    <a:srgbClr val="000000"/>
                  </a:solidFill>
                  <a:latin typeface="Arial"/>
                </a:rPr>
                <a:t>                  negligib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36720" y="320364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5720" y="4581360"/>
              <a:ext cx="106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1080" y="5013360"/>
              <a:ext cx="106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34920" y="6164280"/>
            <a:ext cx="790560" cy="6494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1346040" y="6429240"/>
            <a:ext cx="6685200" cy="267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PERA: setting the scene for </a:t>
            </a:r>
            <a:r>
              <a:rPr b="1" lang="el-G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1" lang="el-GR" sz="1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earance at CNGS – G. Rosa / Neutrino 2008 – Christchurch,New Zeeland, May 27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702640" y="6427800"/>
            <a:ext cx="216000" cy="21744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634600" y="63943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92040" y="189000"/>
            <a:ext cx="5094000" cy="398880"/>
          </a:xfrm>
          <a:prstGeom prst="rect">
            <a:avLst/>
          </a:prstGeom>
          <a:noFill/>
          <a:ln w="19080">
            <a:solidFill>
              <a:srgbClr val="5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Times New Roman"/>
              </a:rPr>
              <a:t>Neutrino events in OPERA – Event galler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2"/>
          <a:srcRect l="15771" t="0" r="0" b="0"/>
          <a:stretch/>
        </p:blipFill>
        <p:spPr>
          <a:xfrm>
            <a:off x="468360" y="1773360"/>
            <a:ext cx="3168720" cy="22255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3"/>
          <a:srcRect l="20840" t="0" r="0" b="0"/>
          <a:stretch/>
        </p:blipFill>
        <p:spPr>
          <a:xfrm>
            <a:off x="5148360" y="3500280"/>
            <a:ext cx="2676600" cy="23958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4"/>
          <a:srcRect l="0" t="0" r="0" b="20173"/>
          <a:stretch/>
        </p:blipFill>
        <p:spPr>
          <a:xfrm>
            <a:off x="3780000" y="620640"/>
            <a:ext cx="5241600" cy="273708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383400" y="901800"/>
            <a:ext cx="2303280" cy="368280"/>
          </a:xfrm>
          <a:prstGeom prst="rect">
            <a:avLst/>
          </a:prstGeom>
          <a:noFill/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1" lang="it-IT" sz="18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1" lang="it-IT" sz="1800" spc="-1" strike="noStrike">
                <a:solidFill>
                  <a:srgbClr val="990000"/>
                </a:solidFill>
                <a:latin typeface="Times New Roman"/>
              </a:rPr>
              <a:t>charm</a:t>
            </a:r>
            <a:r>
              <a:rPr b="1" lang="it-IT" sz="1800" spc="-1" strike="noStrike">
                <a:solidFill>
                  <a:srgbClr val="000066"/>
                </a:solidFill>
                <a:latin typeface="Times New Roman"/>
              </a:rPr>
              <a:t> candid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027080" y="4221000"/>
            <a:ext cx="1924200" cy="898560"/>
          </a:xfrm>
          <a:prstGeom prst="rect">
            <a:avLst/>
          </a:prstGeom>
          <a:noFill/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Flight lenght: 3247.2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ink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0.204 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aughte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.9 (+1.7 -0.9)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796 MeV (&gt; 606 MeV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054400" y="6004080"/>
            <a:ext cx="297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Two e. m. showers pointing to vert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xpected Event Y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2784600" y="3068640"/>
          <a:ext cx="6248160" cy="2895120"/>
        </p:xfrm>
        <a:graphic>
          <a:graphicData uri="http://schemas.openxmlformats.org/drawingml/2006/table">
            <a:tbl>
              <a:tblPr/>
              <a:tblGrid>
                <a:gridCol w="1153800"/>
                <a:gridCol w="1433160"/>
                <a:gridCol w="1421640"/>
                <a:gridCol w="1443600"/>
                <a:gridCol w="795960"/>
              </a:tblGrid>
              <a:tr h="13856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cc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</a:t>
                      </a:r>
                      <a:r>
                        <a:rPr b="1" lang="en-GB" sz="2000" spc="-1" strike="noStrike" baseline="30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9 x 10</a:t>
                      </a:r>
                      <a:r>
                        <a:rPr b="1" lang="en-GB" sz="2000" spc="-1" strike="noStrike" baseline="30000">
                          <a:solidFill>
                            <a:srgbClr val="0000cc"/>
                          </a:solidFill>
                          <a:latin typeface="Arial"/>
                        </a:rPr>
                        <a:t>-3</a:t>
                      </a:r>
                      <a:r>
                        <a:rPr b="1" lang="en-GB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eV</a:t>
                      </a:r>
                      <a:r>
                        <a:rPr b="1" lang="en-GB" sz="2000" spc="-1" strike="noStrike" baseline="30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.4 x 10</a:t>
                      </a:r>
                      <a:r>
                        <a:rPr b="1" lang="en-GB" sz="2000" spc="-1" strike="noStrike" baseline="30000">
                          <a:solidFill>
                            <a:srgbClr val="0000cc"/>
                          </a:solidFill>
                          <a:latin typeface="Arial"/>
                        </a:rPr>
                        <a:t>-3</a:t>
                      </a:r>
                      <a:r>
                        <a:rPr b="1" lang="en-GB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eV</a:t>
                      </a:r>
                      <a:r>
                        <a:rPr b="1" lang="en-GB" sz="2000" spc="-1" strike="noStrike" baseline="30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.0 x 10</a:t>
                      </a:r>
                      <a:r>
                        <a:rPr b="1" lang="en-GB" sz="2000" spc="-1" strike="noStrike" baseline="30000">
                          <a:solidFill>
                            <a:srgbClr val="0000cc"/>
                          </a:solidFill>
                          <a:latin typeface="Arial"/>
                        </a:rPr>
                        <a:t>-3</a:t>
                      </a:r>
                      <a:r>
                        <a:rPr b="1" lang="en-GB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eV</a:t>
                      </a:r>
                      <a:r>
                        <a:rPr b="1" lang="en-GB" sz="2000" spc="-1" strike="noStrike" baseline="30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B.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inal 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7" name=""/>
          <p:cNvSpPr/>
          <p:nvPr/>
        </p:nvSpPr>
        <p:spPr>
          <a:xfrm>
            <a:off x="8271000" y="30686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101520" y="3065400"/>
          <a:ext cx="2530440" cy="2898360"/>
        </p:xfrm>
        <a:graphic>
          <a:graphicData uri="http://schemas.openxmlformats.org/drawingml/2006/table">
            <a:tbl>
              <a:tblPr/>
              <a:tblGrid>
                <a:gridCol w="1216080"/>
                <a:gridCol w="1314360"/>
              </a:tblGrid>
              <a:tr h="577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</a:t>
                      </a:r>
                      <a:r>
                        <a:rPr b="1" lang="ja-JP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μ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</a:t>
                      </a:r>
                      <a:r>
                        <a:rPr b="1" lang="ja-JP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μ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</a:t>
                      </a:r>
                      <a:r>
                        <a:rPr b="1" lang="ja-JP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μ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</a:t>
                      </a:r>
                      <a:r>
                        <a:rPr b="1" lang="fr-FR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</a:t>
                      </a:r>
                      <a:r>
                        <a:rPr b="1" lang="fr-FR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"/>
          <p:cNvSpPr/>
          <p:nvPr/>
        </p:nvSpPr>
        <p:spPr>
          <a:xfrm>
            <a:off x="4729320" y="2496960"/>
            <a:ext cx="21510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ear ν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70000" y="55069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70000" y="43639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77000" y="2568600"/>
            <a:ext cx="18162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23880" y="1447920"/>
            <a:ext cx="792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mixing, 5 years run @ 4.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t /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23880" y="990720"/>
            <a:ext cx="5181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Mass :1700 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rcRect l="26394" t="26498" r="28334" b="49149"/>
          <a:stretch/>
        </p:blipFill>
        <p:spPr>
          <a:xfrm>
            <a:off x="0" y="4680"/>
            <a:ext cx="939960" cy="8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0" y="4824360"/>
          <a:ext cx="39243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824360"/>
                    <a:ext cx="39243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800680" y="1468440"/>
            <a:ext cx="165240" cy="430200"/>
          </a:xfrm>
          <a:prstGeom prst="rect">
            <a:avLst/>
          </a:prstGeom>
          <a:solidFill>
            <a:srgbClr val="b2d3e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65920" y="1633680"/>
            <a:ext cx="164880" cy="430200"/>
          </a:xfrm>
          <a:prstGeom prst="rect">
            <a:avLst/>
          </a:prstGeom>
          <a:solidFill>
            <a:srgbClr val="b2d3e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130800" y="1798560"/>
            <a:ext cx="166680" cy="430200"/>
          </a:xfrm>
          <a:prstGeom prst="rect">
            <a:avLst/>
          </a:prstGeom>
          <a:solidFill>
            <a:srgbClr val="b2d3e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2520" y="1965240"/>
            <a:ext cx="164880" cy="43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467400" y="2130480"/>
            <a:ext cx="166680" cy="43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632640" y="2295360"/>
            <a:ext cx="166680" cy="430200"/>
          </a:xfrm>
          <a:prstGeom prst="rect">
            <a:avLst/>
          </a:prstGeom>
          <a:solidFill>
            <a:srgbClr val="b2d3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794640" y="2460600"/>
            <a:ext cx="166680" cy="430200"/>
          </a:xfrm>
          <a:prstGeom prst="rect">
            <a:avLst/>
          </a:prstGeom>
          <a:solidFill>
            <a:srgbClr val="b2d3e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43680" y="2625840"/>
            <a:ext cx="165240" cy="430200"/>
          </a:xfrm>
          <a:prstGeom prst="rect">
            <a:avLst/>
          </a:prstGeom>
          <a:solidFill>
            <a:srgbClr val="b2d3e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5816520" y="1684080"/>
            <a:ext cx="0" cy="381780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5961240" y="1828440"/>
            <a:ext cx="0" cy="381780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129360" y="1992240"/>
            <a:ext cx="0" cy="381816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292800" y="2169720"/>
            <a:ext cx="0" cy="3817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6464160" y="2333520"/>
            <a:ext cx="0" cy="38181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6622920" y="2504880"/>
            <a:ext cx="0" cy="381780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796080" y="2663640"/>
            <a:ext cx="0" cy="381780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954840" y="2836800"/>
            <a:ext cx="0" cy="381816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5811840" y="1325520"/>
            <a:ext cx="0" cy="39528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5958000" y="1495440"/>
            <a:ext cx="0" cy="39528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6121440" y="1665360"/>
            <a:ext cx="0" cy="39528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6291360" y="1835280"/>
            <a:ext cx="0" cy="3952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6462720" y="2004480"/>
            <a:ext cx="0" cy="395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6622920" y="2174760"/>
            <a:ext cx="0" cy="39528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6792840" y="2344680"/>
            <a:ext cx="0" cy="39528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951600" y="2514600"/>
            <a:ext cx="0" cy="39528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5816520" y="5284800"/>
            <a:ext cx="0" cy="39528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5962680" y="5454720"/>
            <a:ext cx="0" cy="39528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126120" y="5624640"/>
            <a:ext cx="0" cy="39528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6291360" y="5793840"/>
            <a:ext cx="0" cy="395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6462720" y="5964120"/>
            <a:ext cx="0" cy="3952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6627960" y="6134040"/>
            <a:ext cx="0" cy="39528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797520" y="6303960"/>
            <a:ext cx="0" cy="39528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6956280" y="6473880"/>
            <a:ext cx="0" cy="39528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164360" y="5997600"/>
            <a:ext cx="165240" cy="430200"/>
          </a:xfrm>
          <a:prstGeom prst="rect">
            <a:avLst/>
          </a:prstGeom>
          <a:solidFill>
            <a:srgbClr val="97f9fb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164360" y="5559480"/>
            <a:ext cx="165240" cy="430200"/>
          </a:xfrm>
          <a:prstGeom prst="rect">
            <a:avLst/>
          </a:prstGeom>
          <a:solidFill>
            <a:srgbClr val="97f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164360" y="5119560"/>
            <a:ext cx="165240" cy="4302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164360" y="4678200"/>
            <a:ext cx="165240" cy="4302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164360" y="4238640"/>
            <a:ext cx="165240" cy="430200"/>
          </a:xfrm>
          <a:prstGeom prst="rect">
            <a:avLst/>
          </a:prstGeom>
          <a:solidFill>
            <a:srgbClr val="97f9fb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164360" y="3801960"/>
            <a:ext cx="165240" cy="428760"/>
          </a:xfrm>
          <a:prstGeom prst="rect">
            <a:avLst/>
          </a:prstGeom>
          <a:solidFill>
            <a:srgbClr val="97f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384880" y="2260440"/>
            <a:ext cx="1800000" cy="180036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384880" y="3125880"/>
            <a:ext cx="1800000" cy="18000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384880" y="3557520"/>
            <a:ext cx="1800000" cy="18003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384880" y="3989520"/>
            <a:ext cx="1800000" cy="1800000"/>
          </a:xfrm>
          <a:prstGeom prst="line">
            <a:avLst/>
          </a:prstGeom>
          <a:ln w="25560">
            <a:solidFill>
              <a:srgbClr val="d6f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384880" y="4421160"/>
            <a:ext cx="1800000" cy="180036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384880" y="2692440"/>
            <a:ext cx="1800000" cy="1800360"/>
          </a:xfrm>
          <a:prstGeom prst="line">
            <a:avLst/>
          </a:prstGeom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897600" y="3773520"/>
            <a:ext cx="1440000" cy="2087640"/>
          </a:xfrm>
          <a:custGeom>
            <a:avLst/>
            <a:gdLst/>
            <a:ahLst/>
            <a:rect l="l" t="t" r="r" b="b"/>
            <a:pathLst>
              <a:path w="907" h="1315">
                <a:moveTo>
                  <a:pt x="0" y="0"/>
                </a:moveTo>
                <a:cubicBezTo>
                  <a:pt x="64" y="64"/>
                  <a:pt x="128" y="128"/>
                  <a:pt x="181" y="181"/>
                </a:cubicBezTo>
                <a:cubicBezTo>
                  <a:pt x="234" y="234"/>
                  <a:pt x="272" y="264"/>
                  <a:pt x="317" y="317"/>
                </a:cubicBezTo>
                <a:cubicBezTo>
                  <a:pt x="362" y="370"/>
                  <a:pt x="408" y="423"/>
                  <a:pt x="453" y="499"/>
                </a:cubicBezTo>
                <a:cubicBezTo>
                  <a:pt x="498" y="575"/>
                  <a:pt x="552" y="680"/>
                  <a:pt x="590" y="771"/>
                </a:cubicBezTo>
                <a:cubicBezTo>
                  <a:pt x="628" y="862"/>
                  <a:pt x="642" y="967"/>
                  <a:pt x="680" y="1043"/>
                </a:cubicBezTo>
                <a:cubicBezTo>
                  <a:pt x="718" y="1119"/>
                  <a:pt x="778" y="1180"/>
                  <a:pt x="816" y="1225"/>
                </a:cubicBezTo>
                <a:cubicBezTo>
                  <a:pt x="854" y="1270"/>
                  <a:pt x="880" y="1292"/>
                  <a:pt x="907" y="1315"/>
                </a:cubicBezTo>
              </a:path>
            </a:pathLst>
          </a:custGeom>
          <a:noFill/>
          <a:ln w="2556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897600" y="4205160"/>
            <a:ext cx="1440000" cy="1729080"/>
          </a:xfrm>
          <a:custGeom>
            <a:avLst/>
            <a:gdLst/>
            <a:ahLst/>
            <a:rect l="l" t="t" r="r" b="b"/>
            <a:pathLst>
              <a:path w="907" h="1089">
                <a:moveTo>
                  <a:pt x="0" y="0"/>
                </a:moveTo>
                <a:cubicBezTo>
                  <a:pt x="60" y="57"/>
                  <a:pt x="121" y="114"/>
                  <a:pt x="181" y="182"/>
                </a:cubicBezTo>
                <a:cubicBezTo>
                  <a:pt x="241" y="250"/>
                  <a:pt x="310" y="332"/>
                  <a:pt x="363" y="408"/>
                </a:cubicBezTo>
                <a:cubicBezTo>
                  <a:pt x="416" y="484"/>
                  <a:pt x="446" y="559"/>
                  <a:pt x="499" y="635"/>
                </a:cubicBezTo>
                <a:cubicBezTo>
                  <a:pt x="552" y="711"/>
                  <a:pt x="612" y="786"/>
                  <a:pt x="680" y="862"/>
                </a:cubicBezTo>
                <a:cubicBezTo>
                  <a:pt x="748" y="938"/>
                  <a:pt x="827" y="1013"/>
                  <a:pt x="907" y="1089"/>
                </a:cubicBezTo>
              </a:path>
            </a:pathLst>
          </a:custGeom>
          <a:noFill/>
          <a:ln w="25560">
            <a:solidFill>
              <a:srgbClr val="d6ff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897600" y="4637160"/>
            <a:ext cx="1440000" cy="1368360"/>
          </a:xfrm>
          <a:custGeom>
            <a:avLst/>
            <a:gdLst/>
            <a:ahLst/>
            <a:rect l="l" t="t" r="r" b="b"/>
            <a:pathLst>
              <a:path w="907" h="862">
                <a:moveTo>
                  <a:pt x="0" y="0"/>
                </a:moveTo>
                <a:cubicBezTo>
                  <a:pt x="15" y="19"/>
                  <a:pt x="30" y="38"/>
                  <a:pt x="181" y="182"/>
                </a:cubicBezTo>
                <a:cubicBezTo>
                  <a:pt x="332" y="326"/>
                  <a:pt x="619" y="594"/>
                  <a:pt x="907" y="862"/>
                </a:cubicBezTo>
              </a:path>
            </a:pathLst>
          </a:custGeom>
          <a:solidFill>
            <a:srgbClr val="99ff66"/>
          </a:solidFill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883560" y="5057640"/>
            <a:ext cx="1476360" cy="1020960"/>
          </a:xfrm>
          <a:custGeom>
            <a:avLst/>
            <a:gdLst/>
            <a:ahLst/>
            <a:rect l="l" t="t" r="r" b="b"/>
            <a:pathLst>
              <a:path w="930" h="643">
                <a:moveTo>
                  <a:pt x="0" y="0"/>
                </a:moveTo>
                <a:cubicBezTo>
                  <a:pt x="49" y="64"/>
                  <a:pt x="98" y="129"/>
                  <a:pt x="181" y="182"/>
                </a:cubicBezTo>
                <a:cubicBezTo>
                  <a:pt x="264" y="235"/>
                  <a:pt x="385" y="250"/>
                  <a:pt x="499" y="318"/>
                </a:cubicBezTo>
                <a:cubicBezTo>
                  <a:pt x="613" y="386"/>
                  <a:pt x="794" y="537"/>
                  <a:pt x="862" y="590"/>
                </a:cubicBezTo>
                <a:cubicBezTo>
                  <a:pt x="930" y="643"/>
                  <a:pt x="918" y="639"/>
                  <a:pt x="907" y="635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969240" y="5573880"/>
            <a:ext cx="1368360" cy="542880"/>
          </a:xfrm>
          <a:custGeom>
            <a:avLst/>
            <a:gdLst/>
            <a:ahLst/>
            <a:rect l="l" t="t" r="r" b="b"/>
            <a:pathLst>
              <a:path w="997" h="454">
                <a:moveTo>
                  <a:pt x="0" y="0"/>
                </a:moveTo>
                <a:cubicBezTo>
                  <a:pt x="30" y="30"/>
                  <a:pt x="60" y="61"/>
                  <a:pt x="90" y="91"/>
                </a:cubicBezTo>
                <a:cubicBezTo>
                  <a:pt x="120" y="121"/>
                  <a:pt x="158" y="159"/>
                  <a:pt x="181" y="182"/>
                </a:cubicBezTo>
                <a:cubicBezTo>
                  <a:pt x="204" y="205"/>
                  <a:pt x="196" y="212"/>
                  <a:pt x="226" y="227"/>
                </a:cubicBezTo>
                <a:cubicBezTo>
                  <a:pt x="256" y="242"/>
                  <a:pt x="317" y="272"/>
                  <a:pt x="362" y="272"/>
                </a:cubicBezTo>
                <a:cubicBezTo>
                  <a:pt x="407" y="272"/>
                  <a:pt x="445" y="234"/>
                  <a:pt x="498" y="227"/>
                </a:cubicBezTo>
                <a:cubicBezTo>
                  <a:pt x="551" y="220"/>
                  <a:pt x="597" y="189"/>
                  <a:pt x="680" y="227"/>
                </a:cubicBezTo>
                <a:cubicBezTo>
                  <a:pt x="763" y="265"/>
                  <a:pt x="880" y="359"/>
                  <a:pt x="997" y="454"/>
                </a:cubicBezTo>
              </a:path>
            </a:pathLst>
          </a:custGeom>
          <a:noFill/>
          <a:ln w="25560">
            <a:solidFill>
              <a:srgbClr val="d6ff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897600" y="5934240"/>
            <a:ext cx="1440000" cy="372960"/>
          </a:xfrm>
          <a:custGeom>
            <a:avLst/>
            <a:gdLst/>
            <a:ahLst/>
            <a:rect l="l" t="t" r="r" b="b"/>
            <a:pathLst>
              <a:path w="907" h="235">
                <a:moveTo>
                  <a:pt x="0" y="0"/>
                </a:moveTo>
                <a:cubicBezTo>
                  <a:pt x="15" y="15"/>
                  <a:pt x="30" y="30"/>
                  <a:pt x="45" y="45"/>
                </a:cubicBezTo>
                <a:cubicBezTo>
                  <a:pt x="60" y="60"/>
                  <a:pt x="76" y="75"/>
                  <a:pt x="91" y="90"/>
                </a:cubicBezTo>
                <a:cubicBezTo>
                  <a:pt x="106" y="105"/>
                  <a:pt x="121" y="121"/>
                  <a:pt x="136" y="136"/>
                </a:cubicBezTo>
                <a:cubicBezTo>
                  <a:pt x="151" y="151"/>
                  <a:pt x="158" y="166"/>
                  <a:pt x="181" y="181"/>
                </a:cubicBezTo>
                <a:cubicBezTo>
                  <a:pt x="204" y="196"/>
                  <a:pt x="227" y="219"/>
                  <a:pt x="272" y="227"/>
                </a:cubicBezTo>
                <a:cubicBezTo>
                  <a:pt x="317" y="235"/>
                  <a:pt x="408" y="235"/>
                  <a:pt x="453" y="227"/>
                </a:cubicBezTo>
                <a:cubicBezTo>
                  <a:pt x="498" y="219"/>
                  <a:pt x="514" y="196"/>
                  <a:pt x="544" y="181"/>
                </a:cubicBezTo>
                <a:cubicBezTo>
                  <a:pt x="574" y="166"/>
                  <a:pt x="605" y="151"/>
                  <a:pt x="635" y="136"/>
                </a:cubicBezTo>
                <a:cubicBezTo>
                  <a:pt x="665" y="121"/>
                  <a:pt x="696" y="98"/>
                  <a:pt x="726" y="90"/>
                </a:cubicBezTo>
                <a:cubicBezTo>
                  <a:pt x="756" y="82"/>
                  <a:pt x="786" y="82"/>
                  <a:pt x="816" y="90"/>
                </a:cubicBezTo>
                <a:cubicBezTo>
                  <a:pt x="846" y="98"/>
                  <a:pt x="876" y="117"/>
                  <a:pt x="907" y="136"/>
                </a:cubicBezTo>
              </a:path>
            </a:pathLst>
          </a:custGeom>
          <a:noFill/>
          <a:ln w="25560">
            <a:solidFill>
              <a:srgbClr val="d6ff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977240" y="5645160"/>
            <a:ext cx="647640" cy="647640"/>
          </a:xfrm>
          <a:prstGeom prst="rect">
            <a:avLst/>
          </a:prstGeom>
          <a:solidFill>
            <a:srgbClr val="33333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050320" y="5726160"/>
            <a:ext cx="503280" cy="504720"/>
          </a:xfrm>
          <a:prstGeom prst="rect">
            <a:avLst/>
          </a:prstGeom>
          <a:solidFill>
            <a:srgbClr val="ff9900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205840" y="5873760"/>
            <a:ext cx="647640" cy="647640"/>
          </a:xfrm>
          <a:prstGeom prst="rect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03080" y="5851440"/>
            <a:ext cx="235548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990000"/>
                </a:solidFill>
                <a:latin typeface="Verdana"/>
              </a:rPr>
              <a:t>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0000"/>
                </a:solidFill>
                <a:latin typeface="Verdana"/>
              </a:rPr>
              <a:t>Very low bg emul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595920" y="3844800"/>
            <a:ext cx="69840" cy="1654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27560" y="3844800"/>
            <a:ext cx="1324080" cy="165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C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146480" y="2984400"/>
            <a:ext cx="0" cy="1586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073040" y="3673440"/>
            <a:ext cx="915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０ｃ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736040" y="3778200"/>
            <a:ext cx="0" cy="4334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818120" y="3778200"/>
            <a:ext cx="1003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375680" y="3849840"/>
            <a:ext cx="502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388280" y="4210200"/>
            <a:ext cx="490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575040" y="1906560"/>
            <a:ext cx="2432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rget Tra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5961240" y="5389560"/>
            <a:ext cx="647640" cy="7207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3"/>
          <a:stretch/>
        </p:blipFill>
        <p:spPr>
          <a:xfrm>
            <a:off x="971640" y="333360"/>
            <a:ext cx="2571840" cy="27352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4"/>
          <a:stretch/>
        </p:blipFill>
        <p:spPr>
          <a:xfrm>
            <a:off x="3564000" y="0"/>
            <a:ext cx="187164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und track is trac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e by plate to the primary ve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16200000">
            <a:off x="2306520" y="2391840"/>
            <a:ext cx="3995640" cy="29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3906000" y="3810240"/>
            <a:ext cx="400356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870520" y="34005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 flipV="1">
            <a:off x="3493800" y="3068640"/>
            <a:ext cx="2376360" cy="331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919240" y="188424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990880" y="18874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06216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13524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20688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27816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351240" y="18874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252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9416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56544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63852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71016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78144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5452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92760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99888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07052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14324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21488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8616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35924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43088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50216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7344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64652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71816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789440" y="18939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86252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93560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00688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078520" y="188280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151600" y="188280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222880" y="188280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294160" y="188280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367240" y="1892160"/>
            <a:ext cx="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425920" y="18874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499000" y="18874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570640" y="18874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641920" y="18874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715000" y="18860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908680" y="1889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802120" y="599292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stream Films (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712680" y="59929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C 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4500720" y="3212640"/>
            <a:ext cx="1279440" cy="1825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4431240" y="2970720"/>
            <a:ext cx="324000" cy="468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971640" y="3500280"/>
            <a:ext cx="1079280" cy="648000"/>
          </a:xfrm>
          <a:prstGeom prst="rightArrow">
            <a:avLst>
              <a:gd name="adj1" fmla="val 50000"/>
              <a:gd name="adj2" fmla="val 416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87240" y="29973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ino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651640" y="3141720"/>
            <a:ext cx="5047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282360" y="30160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18360" y="44560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ver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2627280" y="3357360"/>
            <a:ext cx="1800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1600200" y="3429000"/>
            <a:ext cx="7543800" cy="338760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Physics motivation and conceptual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Provide unambiguous evidence for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 oscillations in the atmospheric neutrino region through the appearance of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 in a pure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 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Search for the sub-leading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 oscillations (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Times New Roman"/>
              </a:rPr>
              <a:t>13</a:t>
            </a: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ja-JP" sz="24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beam produced at CERN and sent to Gran Sasso (730 km far awa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Beam flux reduction and weak neutrino interactions </a:t>
            </a:r>
            <a:r>
              <a:rPr b="0" lang="ja-JP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 Kton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High spatial granularity to observe </a:t>
            </a:r>
            <a:r>
              <a:rPr b="0" lang="ja-JP" sz="2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ja-JP" sz="2400" spc="-1" strike="noStrike">
                <a:solidFill>
                  <a:srgbClr val="333399"/>
                </a:solidFill>
                <a:latin typeface="Times New Roman"/>
              </a:rPr>
              <a:t> lepton dec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001520" y="4194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lectromagnetic sh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3353040" cy="180036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2"/>
          <a:stretch/>
        </p:blipFill>
        <p:spPr>
          <a:xfrm>
            <a:off x="609480" y="3544920"/>
            <a:ext cx="3353040" cy="177804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4687920" cy="452268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5181480" y="1981080"/>
            <a:ext cx="22860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802400" y="16002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 flipV="1">
            <a:off x="5943600" y="18288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478200" y="17524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4959360" y="5721480"/>
                <a:ext cx="20574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ΔΕ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eV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7092360" y="59500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@ a few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99880" y="5562720"/>
            <a:ext cx="310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Energy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y calorimetric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( in stu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095880" y="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T.Toshito(Nagoya Univ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Test exp. @ CE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6008760" y="533520"/>
            <a:ext cx="3135240" cy="63244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3960720" y="2362320"/>
            <a:ext cx="2239920" cy="449568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3"/>
          <a:stretch/>
        </p:blipFill>
        <p:spPr>
          <a:xfrm>
            <a:off x="1905120" y="1828800"/>
            <a:ext cx="2286000" cy="44956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4"/>
          <a:stretch/>
        </p:blipFill>
        <p:spPr>
          <a:xfrm>
            <a:off x="0" y="1143000"/>
            <a:ext cx="2112840" cy="411480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6172560" y="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GeV/c  e Show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191480" y="396720"/>
            <a:ext cx="68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952880" y="701640"/>
            <a:ext cx="8384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952880" y="1006560"/>
            <a:ext cx="83844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495680" y="1828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.G. 1 / m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33520" y="609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.G. 30 / m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590920" y="13096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.G. 5 / m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04920" y="152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G. density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と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Sh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8915400" y="1447920"/>
            <a:ext cx="0" cy="4572000"/>
          </a:xfrm>
          <a:prstGeom prst="line">
            <a:avLst/>
          </a:prstGeom>
          <a:ln w="22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967880" y="3413160"/>
            <a:ext cx="1012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　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 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324480" y="5943600"/>
            <a:ext cx="1067040" cy="7621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7620120" y="6324120"/>
            <a:ext cx="1523880" cy="3812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248520" y="633888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230680" y="6491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lectron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4038480" y="990720"/>
            <a:ext cx="4800600" cy="469584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2082960" cy="25146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304920" y="2209680"/>
            <a:ext cx="1600200" cy="39708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4"/>
          <a:stretch/>
        </p:blipFill>
        <p:spPr>
          <a:xfrm>
            <a:off x="304920" y="3581280"/>
            <a:ext cx="1295280" cy="34776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5"/>
          <a:stretch/>
        </p:blipFill>
        <p:spPr>
          <a:xfrm>
            <a:off x="152280" y="6248520"/>
            <a:ext cx="4419720" cy="36504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6"/>
          <a:stretch/>
        </p:blipFill>
        <p:spPr>
          <a:xfrm>
            <a:off x="304920" y="4419720"/>
            <a:ext cx="3200400" cy="133488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7"/>
          <a:stretch/>
        </p:blipFill>
        <p:spPr>
          <a:xfrm>
            <a:off x="152280" y="5867280"/>
            <a:ext cx="2362320" cy="38124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382680" y="16002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0120" y="2819520"/>
            <a:ext cx="4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5880" y="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T.Toshito(Nagoya Univ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Test exp. @ CERN (May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496760" y="2971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649400" y="53341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07720" y="29718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8307720" y="54100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74720" y="6094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2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251040" y="30481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4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941800" y="5562720"/>
            <a:ext cx="293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ja-JP" sz="3200" spc="-1" strike="noStrike">
                <a:solidFill>
                  <a:srgbClr val="ff0000"/>
                </a:solidFill>
                <a:latin typeface="Times New Roman"/>
              </a:rPr>
              <a:t>eff~90%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ja-JP" sz="3200" spc="-1" strike="noStrike">
                <a:solidFill>
                  <a:srgbClr val="ff0000"/>
                </a:solidFill>
                <a:latin typeface="Times New Roman"/>
              </a:rPr>
              <a:t>mis-id prob~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7840" y="990720"/>
            <a:ext cx="39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er detection &amp; χ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6956280" cy="377496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0" y="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rebuchet MS"/>
              </a:rPr>
              <a:t>dE/dX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172040" y="914400"/>
            <a:ext cx="477720" cy="199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79560" y="914400"/>
            <a:ext cx="479520" cy="199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486240" y="914400"/>
            <a:ext cx="479160" cy="199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259080" y="914400"/>
            <a:ext cx="4284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441600" y="914400"/>
            <a:ext cx="4464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146480" y="914400"/>
            <a:ext cx="4608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962520" y="914400"/>
            <a:ext cx="4608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590920" y="259092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Times New Roman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581280" y="25146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Times New Roman"/>
              </a:rPr>
              <a:t>Fil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779560" y="2639880"/>
            <a:ext cx="49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846680" y="905040"/>
            <a:ext cx="479520" cy="199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648320" y="914400"/>
            <a:ext cx="4284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800600" y="914400"/>
            <a:ext cx="4284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265080" y="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T.Toshito(Nagoya Univ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Test exp. @ KEK(Nov.2002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800600" y="914400"/>
            <a:ext cx="4428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858000" y="914400"/>
            <a:ext cx="477720" cy="199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172200" y="914400"/>
            <a:ext cx="479520" cy="199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945040" y="914400"/>
            <a:ext cx="4284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127920" y="914400"/>
            <a:ext cx="4428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32440" y="914400"/>
            <a:ext cx="4608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648480" y="914400"/>
            <a:ext cx="4608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465880" y="2639880"/>
            <a:ext cx="49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532640" y="905040"/>
            <a:ext cx="479520" cy="199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334280" y="914400"/>
            <a:ext cx="4284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486560" y="914400"/>
            <a:ext cx="4284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486560" y="914400"/>
            <a:ext cx="4464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313240" y="906480"/>
            <a:ext cx="4284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1676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410080" y="1905120"/>
            <a:ext cx="457200" cy="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33520" y="1752480"/>
            <a:ext cx="19810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=1.2GeV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adron</a:t>
            </a:r>
            <a:r>
              <a:rPr b="1" lang="ja-JP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3276720" y="2895480"/>
            <a:ext cx="101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352680" y="22860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09680" y="1574640"/>
            <a:ext cx="6210360" cy="203400"/>
          </a:xfrm>
          <a:custGeom>
            <a:avLst/>
            <a:gdLst/>
            <a:ahLst/>
            <a:rect l="l" t="t" r="r" b="b"/>
            <a:pathLst>
              <a:path w="3912" h="128">
                <a:moveTo>
                  <a:pt x="0" y="64"/>
                </a:moveTo>
                <a:cubicBezTo>
                  <a:pt x="140" y="88"/>
                  <a:pt x="280" y="112"/>
                  <a:pt x="528" y="112"/>
                </a:cubicBezTo>
                <a:cubicBezTo>
                  <a:pt x="776" y="112"/>
                  <a:pt x="1232" y="64"/>
                  <a:pt x="1488" y="64"/>
                </a:cubicBezTo>
                <a:cubicBezTo>
                  <a:pt x="1744" y="64"/>
                  <a:pt x="1792" y="104"/>
                  <a:pt x="2064" y="112"/>
                </a:cubicBezTo>
                <a:cubicBezTo>
                  <a:pt x="2336" y="120"/>
                  <a:pt x="2832" y="128"/>
                  <a:pt x="3120" y="112"/>
                </a:cubicBezTo>
                <a:cubicBezTo>
                  <a:pt x="3408" y="96"/>
                  <a:pt x="3672" y="32"/>
                  <a:pt x="3792" y="16"/>
                </a:cubicBezTo>
                <a:cubicBezTo>
                  <a:pt x="3912" y="0"/>
                  <a:pt x="3832" y="16"/>
                  <a:pt x="3840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495680" y="6172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E/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876920" y="2971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E/dX =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50960" y="64533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~number of gr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019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08660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5645160" cy="561492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0" y="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Momentum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265080" y="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T.Toshito(Nagoya Univ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Test exp. @ KEK(Nov.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048120" y="1905120"/>
            <a:ext cx="914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10080" y="1905120"/>
            <a:ext cx="914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048120" y="4648320"/>
            <a:ext cx="914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62720" y="4648320"/>
            <a:ext cx="914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80880" y="19810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Low dE/d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80880" y="464832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igher dE/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010280" y="19810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t with P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086600" y="45720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t with Pro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surement using Multiple Scatt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124080" y="160020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cted Value for 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2819520" y="159984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124080" y="4267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cted Value for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2666520" y="41907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010280" y="3200400"/>
            <a:ext cx="167652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Resolution </a:t>
            </a:r>
            <a:r>
              <a:rPr b="0" lang="ja-JP" sz="2400" spc="-1" strike="noStrike">
                <a:solidFill>
                  <a:srgbClr val="ff3300"/>
                </a:solidFill>
                <a:latin typeface="Symbol"/>
                <a:ea typeface="Symbol"/>
              </a:rPr>
              <a:t></a:t>
            </a:r>
            <a:r>
              <a:rPr b="0" lang="ja-JP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ja-JP" sz="2400" spc="-1" strike="noStrike">
                <a:solidFill>
                  <a:srgbClr val="ff3300"/>
                </a:solidFill>
                <a:latin typeface="Symbol"/>
                <a:ea typeface="Symbol"/>
              </a:rPr>
              <a:t>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4520" y="2903400"/>
            <a:ext cx="1871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44880" y="2903400"/>
            <a:ext cx="2160360" cy="66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44880" y="2903400"/>
            <a:ext cx="2087280" cy="9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138400" y="2622600"/>
            <a:ext cx="45396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604960" y="1469520"/>
            <a:ext cx="1368720" cy="11322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604960" y="1758960"/>
            <a:ext cx="1656000" cy="8431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576520" y="2565000"/>
            <a:ext cx="1800360" cy="7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9040" y="237168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50160" y="162864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08440" y="258768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Unicode MS"/>
                <a:ea typeface="Arial Unicode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148360" y="2060640"/>
          <a:ext cx="3816360" cy="1339920"/>
        </p:xfrm>
        <a:graphic>
          <a:graphicData uri="http://schemas.openxmlformats.org/drawingml/2006/table">
            <a:tbl>
              <a:tblPr/>
              <a:tblGrid>
                <a:gridCol w="1008000"/>
                <a:gridCol w="1873080"/>
                <a:gridCol w="935280"/>
              </a:tblGrid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→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8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→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4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→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5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→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2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nciple of detecting tau neutr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8320" y="154944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83160" y="190800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51200" y="205884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5240" y="2558880"/>
            <a:ext cx="9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72120" y="3390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05520" y="368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4920" y="4446720"/>
            <a:ext cx="8806320" cy="1213920"/>
            <a:chOff x="124920" y="4446720"/>
            <a:chExt cx="8806320" cy="1213920"/>
          </a:xfrm>
        </p:grpSpPr>
        <p:sp>
          <p:nvSpPr>
            <p:cNvPr id="93" name=""/>
            <p:cNvSpPr/>
            <p:nvPr/>
          </p:nvSpPr>
          <p:spPr>
            <a:xfrm>
              <a:off x="124920" y="4446720"/>
              <a:ext cx="73450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icrometric and milliradian resolution                                 </a:t>
              </a: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→ 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Emul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Large Mass                                                                              →  Lead Targ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Trigger Neutrino Interaction                                                  → Target Tra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Identify muons and charge to reduce charm backgound   →  Spectro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24720" y="4516200"/>
              <a:ext cx="216000" cy="44568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11520 h 445680"/>
                <a:gd name="textAreaBottom" fmla="*/ 434160 h 44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68800" y="457344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24720" y="5106960"/>
              <a:ext cx="216000" cy="52164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13320 h 521640"/>
                <a:gd name="textAreaBottom" fmla="*/ 508320 h 52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0600" y="507996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lectron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te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30840" y="6005520"/>
            <a:ext cx="8558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ybrid Detector (Emulsion - Electronic Detec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62800" y="1916280"/>
            <a:ext cx="140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～ </a:t>
            </a: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ja-JP" sz="1400" spc="-1" strike="noStrike" baseline="30000">
                <a:solidFill>
                  <a:srgbClr val="ff0000"/>
                </a:solidFill>
                <a:latin typeface="Arial"/>
              </a:rPr>
              <a:t>-13</a:t>
            </a: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cτ = 87 mic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197000"/>
            <a:ext cx="4608360" cy="3024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 rot="15152400">
            <a:off x="948240" y="211680"/>
            <a:ext cx="5245200" cy="678348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C B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759280" y="5305320"/>
            <a:ext cx="33847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Sandwich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Pb sheet      x 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OPERA film x 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Total Weight 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8.3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 rot="14869200">
            <a:off x="852120" y="-37800"/>
            <a:ext cx="5386320" cy="716436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C B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759280" y="5305320"/>
            <a:ext cx="33847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Sandwich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Pb sheet      x 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OPERA film x 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Total Weight 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8.3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115920"/>
            <a:ext cx="8280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4065480"/>
            <a:ext cx="3492360" cy="2792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473200" y="1584360"/>
            <a:ext cx="478080" cy="199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1080" y="1584360"/>
            <a:ext cx="479520" cy="199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87400" y="1584360"/>
            <a:ext cx="479520" cy="199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60600" y="1584360"/>
            <a:ext cx="4284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43120" y="1584360"/>
            <a:ext cx="4428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48000" y="1584360"/>
            <a:ext cx="4608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3680" y="1584360"/>
            <a:ext cx="46080" cy="199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80960" y="2725560"/>
            <a:ext cx="1265400" cy="60984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90680" y="2722680"/>
            <a:ext cx="1281240" cy="31896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04840" y="2724120"/>
            <a:ext cx="263520" cy="1440"/>
          </a:xfrm>
          <a:prstGeom prst="line">
            <a:avLst/>
          </a:prstGeom>
          <a:ln w="93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7520" y="2728800"/>
            <a:ext cx="492120" cy="0"/>
          </a:xfrm>
          <a:prstGeom prst="line">
            <a:avLst/>
          </a:prstGeom>
          <a:ln w="9360">
            <a:solidFill>
              <a:srgbClr val="cc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389240" y="2363760"/>
            <a:ext cx="598320" cy="357120"/>
          </a:xfrm>
          <a:prstGeom prst="line">
            <a:avLst/>
          </a:prstGeom>
          <a:ln w="6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90800" y="2360520"/>
            <a:ext cx="706320" cy="14400"/>
          </a:xfrm>
          <a:prstGeom prst="line">
            <a:avLst/>
          </a:prstGeom>
          <a:ln w="6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984320" y="1620720"/>
            <a:ext cx="531720" cy="744480"/>
          </a:xfrm>
          <a:prstGeom prst="line">
            <a:avLst/>
          </a:prstGeom>
          <a:ln w="64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96920" y="1946160"/>
            <a:ext cx="638280" cy="411120"/>
          </a:xfrm>
          <a:prstGeom prst="line">
            <a:avLst/>
          </a:prstGeom>
          <a:ln w="64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2240" y="2367000"/>
            <a:ext cx="47520" cy="14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44760" y="2373480"/>
            <a:ext cx="49320" cy="14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741320" y="2484000"/>
            <a:ext cx="46080" cy="255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555920" y="2593440"/>
            <a:ext cx="45720" cy="255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50880" y="2763720"/>
            <a:ext cx="5256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46360" y="2813040"/>
            <a:ext cx="5220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46200" y="2987640"/>
            <a:ext cx="52560" cy="1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59000" y="2943360"/>
            <a:ext cx="52560" cy="1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55920" y="2814480"/>
            <a:ext cx="39600" cy="1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9600" y="2903400"/>
            <a:ext cx="37800" cy="1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6920" y="3156120"/>
            <a:ext cx="38160" cy="1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46200" y="3241800"/>
            <a:ext cx="39960" cy="1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92080" y="3260880"/>
            <a:ext cx="7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Times New Roman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8960" y="3597120"/>
            <a:ext cx="18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92929"/>
                </a:solidFill>
                <a:latin typeface="Arial"/>
              </a:rPr>
              <a:t>Emulsion la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766520" y="3562200"/>
            <a:ext cx="65160" cy="192240"/>
          </a:xfrm>
          <a:prstGeom prst="line">
            <a:avLst/>
          </a:prstGeom>
          <a:ln w="9360">
            <a:solidFill>
              <a:srgbClr val="29292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1580760" y="3569760"/>
            <a:ext cx="236520" cy="212760"/>
          </a:xfrm>
          <a:prstGeom prst="line">
            <a:avLst/>
          </a:prstGeom>
          <a:ln w="9360">
            <a:solidFill>
              <a:srgbClr val="29292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2720" y="245268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89120" y="213516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71720" y="1892160"/>
            <a:ext cx="49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25640" y="15890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 rot="15152400">
            <a:off x="4281840" y="1549800"/>
            <a:ext cx="3422520" cy="4427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3708360" y="1980720"/>
            <a:ext cx="2519280" cy="57636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93280" y="183204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5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804000" y="2052360"/>
            <a:ext cx="1370160" cy="64908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09800" y="194472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028000" y="3060720"/>
            <a:ext cx="216000" cy="151272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85960" y="378144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.4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9560600">
            <a:off x="3348000" y="5013000"/>
            <a:ext cx="798480" cy="360360"/>
          </a:xfrm>
          <a:prstGeom prst="rightArrow">
            <a:avLst>
              <a:gd name="adj1" fmla="val 50000"/>
              <a:gd name="adj2" fmla="val 5539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4880" y="551664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iled 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tern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31040" y="4365720"/>
            <a:ext cx="785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2360" y="5661000"/>
            <a:ext cx="21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ar Emul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PERA fi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0720" y="450864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d 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88000" y="605628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3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6880" y="204948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au 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1640" y="112536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arget is divided in about 152000 ECC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64000" y="5319720"/>
            <a:ext cx="37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ulsion Cloud Chambe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9800" y="407664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111560" y="974880"/>
            <a:ext cx="2625120" cy="5262480"/>
            <a:chOff x="4111560" y="974880"/>
            <a:chExt cx="2625120" cy="5262480"/>
          </a:xfrm>
        </p:grpSpPr>
        <p:sp>
          <p:nvSpPr>
            <p:cNvPr id="156" name=""/>
            <p:cNvSpPr/>
            <p:nvPr/>
          </p:nvSpPr>
          <p:spPr>
            <a:xfrm>
              <a:off x="5509080" y="134136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Neutri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111560" y="974880"/>
              <a:ext cx="2476440" cy="5262480"/>
              <a:chOff x="4111560" y="974880"/>
              <a:chExt cx="2476440" cy="5262480"/>
            </a:xfrm>
          </p:grpSpPr>
          <p:sp>
            <p:nvSpPr>
              <p:cNvPr id="158" name=""/>
              <p:cNvSpPr/>
              <p:nvPr/>
            </p:nvSpPr>
            <p:spPr>
              <a:xfrm>
                <a:off x="5380200" y="974880"/>
                <a:ext cx="27000" cy="1949400"/>
              </a:xfrm>
              <a:prstGeom prst="line">
                <a:avLst/>
              </a:prstGeom>
              <a:ln w="34920">
                <a:solidFill>
                  <a:srgbClr val="0000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408640" y="2709720"/>
                <a:ext cx="0" cy="648000"/>
              </a:xfrm>
              <a:prstGeom prst="line">
                <a:avLst/>
              </a:prstGeom>
              <a:ln w="38160">
                <a:solidFill>
                  <a:srgbClr val="3366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543200" y="3357720"/>
                <a:ext cx="865080" cy="2017440"/>
              </a:xfrm>
              <a:prstGeom prst="line">
                <a:avLst/>
              </a:prstGeom>
              <a:ln w="38160">
                <a:solidFill>
                  <a:srgbClr val="3366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08640" y="3357720"/>
                <a:ext cx="144360" cy="792000"/>
              </a:xfrm>
              <a:prstGeom prst="line">
                <a:avLst/>
              </a:prstGeom>
              <a:ln w="38160">
                <a:solidFill>
                  <a:srgbClr val="3366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408640" y="3357720"/>
                <a:ext cx="503280" cy="1225440"/>
              </a:xfrm>
              <a:prstGeom prst="line">
                <a:avLst/>
              </a:prstGeom>
              <a:ln w="38160">
                <a:solidFill>
                  <a:srgbClr val="3366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551560" y="4078440"/>
                <a:ext cx="533160" cy="2158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69080" y="4510080"/>
                <a:ext cx="718920" cy="1582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4111560" y="5346720"/>
                <a:ext cx="432000" cy="819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PERA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12097" r="0" b="0"/>
          <a:stretch/>
        </p:blipFill>
        <p:spPr>
          <a:xfrm>
            <a:off x="1187280" y="1413000"/>
            <a:ext cx="4168800" cy="5445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73200" y="540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OPERA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75800" y="1628640"/>
            <a:ext cx="2968200" cy="4824720"/>
            <a:chOff x="6175800" y="1628640"/>
            <a:chExt cx="2968200" cy="4824720"/>
          </a:xfrm>
        </p:grpSpPr>
        <p:sp>
          <p:nvSpPr>
            <p:cNvPr id="170" name=""/>
            <p:cNvSpPr/>
            <p:nvPr/>
          </p:nvSpPr>
          <p:spPr>
            <a:xfrm>
              <a:off x="6589080" y="2492280"/>
              <a:ext cx="129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emul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(44 μ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89080" y="5013360"/>
              <a:ext cx="129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emul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(44 μ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75800" y="3789360"/>
              <a:ext cx="163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plastic 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(205 μ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2"/>
            <a:srcRect l="0" t="0" r="68223" b="0"/>
            <a:stretch/>
          </p:blipFill>
          <p:spPr>
            <a:xfrm>
              <a:off x="7812000" y="1628640"/>
              <a:ext cx="1332000" cy="482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"/>
          <p:cNvSpPr/>
          <p:nvPr/>
        </p:nvSpPr>
        <p:spPr>
          <a:xfrm>
            <a:off x="2336040" y="907920"/>
            <a:ext cx="4789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 micron crystal 3D tracking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50920" y="1628640"/>
            <a:ext cx="5350320" cy="4024440"/>
            <a:chOff x="250920" y="1628640"/>
            <a:chExt cx="5350320" cy="402444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rcRect l="0" t="1543" r="1196" b="0"/>
            <a:stretch/>
          </p:blipFill>
          <p:spPr>
            <a:xfrm>
              <a:off x="250920" y="1628640"/>
              <a:ext cx="5329080" cy="4024440"/>
            </a:xfrm>
            <a:prstGeom prst="rect">
              <a:avLst/>
            </a:prstGeom>
            <a:ln w="31680">
              <a:solidFill>
                <a:srgbClr val="000000"/>
              </a:solidFill>
              <a:round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3995640" y="2133720"/>
              <a:ext cx="1382760" cy="427320"/>
              <a:chOff x="3995640" y="2133720"/>
              <a:chExt cx="1382760" cy="427320"/>
            </a:xfrm>
          </p:grpSpPr>
          <p:sp>
            <p:nvSpPr>
              <p:cNvPr id="178" name=""/>
              <p:cNvSpPr/>
              <p:nvPr/>
            </p:nvSpPr>
            <p:spPr>
              <a:xfrm>
                <a:off x="4043160" y="2133720"/>
                <a:ext cx="13208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995640" y="2162160"/>
                <a:ext cx="138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0 micr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3131640" y="5229360"/>
              <a:ext cx="246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croscopic Im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2920" y="4076640"/>
              <a:ext cx="4313880" cy="993960"/>
            </a:xfrm>
            <a:prstGeom prst="rect">
              <a:avLst/>
            </a:prstGeom>
            <a:solidFill>
              <a:srgbClr val="fffff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rded as silver gra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ong the line particle passed throu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nsitivity : 36grains/100mic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708520" y="2463840"/>
            <a:ext cx="3419640" cy="3810960"/>
            <a:chOff x="5708520" y="2463840"/>
            <a:chExt cx="3419640" cy="3810960"/>
          </a:xfrm>
        </p:grpSpPr>
        <p:pic>
          <p:nvPicPr>
            <p:cNvPr id="183" name="" descr=""/>
            <p:cNvPicPr/>
            <p:nvPr/>
          </p:nvPicPr>
          <p:blipFill>
            <a:blip r:embed="rId4"/>
            <a:srcRect l="23441" t="14569" r="27133" b="18507"/>
            <a:stretch/>
          </p:blipFill>
          <p:spPr>
            <a:xfrm>
              <a:off x="5708520" y="2463840"/>
              <a:ext cx="3419640" cy="319716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sp>
          <p:nvSpPr>
            <p:cNvPr id="184" name=""/>
            <p:cNvSpPr/>
            <p:nvPr/>
          </p:nvSpPr>
          <p:spPr>
            <a:xfrm>
              <a:off x="6084720" y="5705640"/>
              <a:ext cx="28749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>
                <a:lnSpc>
                  <a:spcPct val="76000"/>
                </a:lnSpc>
                <a:spcBef>
                  <a:spcPts val="1312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position resolution    </a:t>
              </a:r>
              <a:r>
                <a:rPr b="1" lang="zh-CN" sz="2100" spc="-1" strike="noStrike">
                  <a:solidFill>
                    <a:srgbClr val="000000"/>
                  </a:solidFill>
                  <a:latin typeface="Arial"/>
                </a:rPr>
                <a:t>～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50n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u Neutrino Interaction In ECC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O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5234040" cy="5445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nsitivity of tau neutrino de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187280" y="1844640"/>
          <a:ext cx="6697440" cy="2952720"/>
        </p:xfrm>
        <a:graphic>
          <a:graphicData uri="http://schemas.openxmlformats.org/drawingml/2006/table">
            <a:tbl>
              <a:tblPr/>
              <a:tblGrid>
                <a:gridCol w="1434240"/>
                <a:gridCol w="1747800"/>
                <a:gridCol w="1841760"/>
                <a:gridCol w="1673640"/>
              </a:tblGrid>
              <a:tr h="5644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c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n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ull mix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it-IT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x 10</a:t>
                      </a:r>
                      <a:r>
                        <a:rPr b="1" lang="it-IT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V</a:t>
                      </a:r>
                      <a:r>
                        <a:rPr b="1" lang="it-IT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it-IT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 x 10</a:t>
                      </a:r>
                      <a:r>
                        <a:rPr b="1" lang="it-IT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V</a:t>
                      </a:r>
                      <a:r>
                        <a:rPr b="1" lang="it-IT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071520" y="1366920"/>
            <a:ext cx="54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ll mixing after 5 years run at 4.5x10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pot /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71640" y="5084640"/>
            <a:ext cx="54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ckground sour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Charm production and dec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Hadron re-interactions in 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Large-angle muon scattering in 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580000" y="5373720"/>
            <a:ext cx="3033000" cy="703800"/>
            <a:chOff x="5580000" y="5373720"/>
            <a:chExt cx="3033000" cy="703800"/>
          </a:xfrm>
        </p:grpSpPr>
        <p:sp>
          <p:nvSpPr>
            <p:cNvPr id="192" name=""/>
            <p:cNvSpPr/>
            <p:nvPr/>
          </p:nvSpPr>
          <p:spPr>
            <a:xfrm>
              <a:off x="6153840" y="5373720"/>
              <a:ext cx="245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Muon ID b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lectronic detec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80000" y="5618160"/>
              <a:ext cx="504720" cy="257040"/>
            </a:xfrm>
            <a:prstGeom prst="leftArrow">
              <a:avLst>
                <a:gd name="adj1" fmla="val 50000"/>
                <a:gd name="adj2" fmla="val 4909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1:11:39Z</dcterms:created>
  <dc:creator>kun</dc:creator>
  <dc:description/>
  <dc:language>en-US</dc:language>
  <cp:lastModifiedBy>kun</cp:lastModifiedBy>
  <dcterms:modified xsi:type="dcterms:W3CDTF">2008-09-11T12:07:38Z</dcterms:modified>
  <cp:revision>261</cp:revision>
  <dc:subject/>
  <dc:title>OPERA</dc:title>
</cp:coreProperties>
</file>